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B60-508E-4B4A-A9F8-1274FDDD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3E9-0914-4344-9E17-03F9327B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209F7-C7FE-4940-97DC-8F39DA5C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9FDCB-AF5F-481E-93DC-34BB1BBE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3AF70-B7EC-477D-BC0E-6B7A22FB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949AE-4AB1-492C-9C8E-658B461B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E7750-CFD2-4C3F-9829-E2A4978D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ECCFC-A93C-4EB7-BBC2-D515DE94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6BF16-AF93-4E72-811E-2DE422F0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17005-5DE4-443F-8EE0-4267AB6E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845B3-16B9-4F32-AFA2-D2A17E60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9D611-A5CA-400B-AC56-53B6729F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981-04F1-4A8C-9905-FBB015AC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0D0BD-B95B-423F-B340-366E5B43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6E49F-2389-4958-9747-20E2E24A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6C58D-B6AE-4377-84FD-611E067D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9DFEF-6200-4D0F-847C-C3732FD9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2EA09-E9BC-457F-8219-A3242753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EC1E0-CF27-461F-BF39-ACEDF891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872FF-D4E9-4FD2-837F-7D8F28A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5E8DF-3717-47F1-BEEB-15FAFF95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98F88-ED22-41B4-A605-D409A93B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DE23B-BA29-4087-809E-CA915C71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80F-8547-43B8-8FB0-386FBD8A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811EF-8892-4F33-B6B7-3959998A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64C47-3126-49A3-BAC8-8517EE27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FCF5E-4B14-40BF-9A79-2C45A9E1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86E77-4BDC-4DAC-93DA-8AF80814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7C0B0-30B5-468D-9700-FE4ACCAD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EF5FB-99DC-4AD6-BCE9-905882E0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C3819-AB6F-4931-85F5-98E7FBF3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1D09C-0CFC-483D-88E4-27EB3D1C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F0D91-A71D-4782-9092-E68FF5B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CC966-5C65-4245-BE5D-6CE4AC8E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52D3-3B66-4763-9C7A-BAEDB247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060C1-5A31-4AD4-8F7C-58418F3D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4FD60-9150-4C4F-A1C4-3A49977A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43B68-5E57-4BCA-A503-7116299B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67B33-995F-4416-B504-8E013A44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AA6EA-47B8-4703-83C6-D01C5C76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7C512-FA45-418F-A28C-6259D489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B860D-FB31-46CB-B2DE-DE857A7A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43180-83C0-490E-A92D-39CC44AA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7F879-C181-4364-A538-FB9046F6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8FDF9-E9A8-47E3-AF9E-CB2D6749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6377-078D-4DD2-90C5-18C3CD35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F9256-D3BA-45AD-B7A6-B06E157A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EFDFB-D39E-4393-B3FA-56D291EC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E7105-AE80-474B-A89B-BAD5027C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05275-96B7-4A35-B225-4BD4EB63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4B7BE-7405-466C-9299-9294FA1F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1540-0023-494D-B206-D8DC7C77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E6EA-0882-48BE-A487-E6A574EB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0B28-301E-4E5D-AB50-E601BDCD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5FA2-BDCA-4789-B2E7-8556C37B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1D94-3613-476F-879D-707B5D29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31C-111F-4777-B322-7E622040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68FB-759F-4A99-8838-7F49F191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AA35-BA51-4BEB-B3F4-1CBCE8D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4782-4F39-453F-A4FC-E7C9B43C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5809-E9C9-4CE4-9014-DFBFDAAD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CDF5-607D-48AD-AF71-74651E4D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46B7-B017-462A-BE20-F46C53D1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0CD88-975C-425E-8DB8-6D08BB81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8FA1-E1F7-49B5-8A3F-C7AD965F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455C-3AE6-4C96-9B63-49AB3C32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C8EA-F2AC-4678-ACF2-BE999803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B64-AF7E-458F-AB2D-1235B2B4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1453A-4A01-4981-8A85-971E1C52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FD80-768F-48D4-AE19-821CF5AA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BB3BB-F658-412B-957A-6A1F4018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90E6-70BF-4E3D-8351-1B2D0B0B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6D93-5386-4F68-AE14-CC7409CD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7F4A-075A-4C6A-B21F-676E5E97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B76B-E9ED-4C01-9581-B7695675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B622-3D61-4E3C-90B1-06CD3D9A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9087-6FAB-4956-83CB-98C74DE2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CC705-9C3F-4EE5-A06B-7A05BE53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8C7-0412-494C-B858-383769F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B5005-10F9-4172-B51A-DB9AAA6D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7E95-35DF-430C-8AC4-247C5AD1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01F39-4F28-45D8-8D73-83B4575A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3B44-3060-4171-8D69-6C5672FC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A9A0D-2A47-499D-954A-F87FA8C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63B8-951A-466D-A8D5-A0E38765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D2DF-D519-497E-B7F1-B4091DBC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9B9E-F7A1-4A7A-B6F0-45CBFC75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35CD9-C8CF-4E9B-88EA-8A58A926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3DEB6-F61C-4CB5-996E-2686F8B1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EF8-FB0A-4BDD-8C0B-0F82BB83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5187B-89F5-4280-9ADE-1A7CE362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44E5A-30BA-45FB-92D1-4330EE32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CD0CF-2BFB-4236-B064-19D6DB59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39EC-FCE5-4EBE-AEE3-F407BA6E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5DF58-63EA-4960-8BBF-5D499DBB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D2E1-B4E6-41CB-82E4-0E4E4F30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AFF96-DFE2-4B77-9AEE-F00F0C32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E9BEB-BC55-422D-933A-C6B3AFA6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38464-D9C3-4260-BC5A-337D0B2A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ECCF2-6EAC-44A9-868D-54B8E6E5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B67-CD5A-4781-AFBA-46A800A2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38FA5-C6D0-41D1-87AD-3C658E82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604A2-66D1-473A-9D6E-B6B8A4BF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EA04C-0CA8-4141-8758-65C2C5C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FB7A-7316-4E70-9F99-5CD15710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5BCA0-E133-42BF-B0A1-7B5A2453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9A6F3-919B-4F31-A5B5-2F40CD2B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55B60-691A-4CF4-B682-8265B33E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207DF-66DC-41D6-B42F-6B3E1A73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9F88D-8BCB-43DE-96D4-2A6D799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8E82E-419D-44A0-945E-4ED4B482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661-5365-468C-AAE9-5D8A6143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DC4AB-2431-41D7-935A-3E627B17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B87CD-D7C3-434B-BB19-13722B95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E8BAF-D8D5-44A5-8A5B-7A001ABD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92F9F-FAC0-4AAC-BC04-B9A9AE74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3386C-E1F4-4997-820C-49B314FC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6A9DA-7853-4B47-A787-CAC147BB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013BA-5CEF-4139-9714-4DC9AA38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1BBAE-B92E-4436-8B34-FF846D44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A7018-838F-4DEA-AC74-E9C3DB19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61722-C688-4F93-A4D3-2C300AA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EB8-406A-415D-9EE9-BFB18906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FE50F-2CDC-4FF7-BBFE-F5EC349F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4C0D6-DB38-4E4F-B971-20A3F08B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3610-0E04-40D5-B916-D844894E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A086B-F3C5-4500-82CE-76E6C426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E5F35-7198-4306-80CB-7D79F1B1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1EFDF-A517-4469-AC60-472934BF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6BF52-A017-4DE8-89DC-569236F8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4F7E9-3FBA-4455-9735-4A6C486C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DBEF8-B4CC-41C3-9821-FEF8785C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8387A-09C4-4021-AD1C-B8224CF3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568-66B8-4855-887D-6FCE64ED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18A00-4927-4845-B6B0-7033A0BA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5C0AB-032F-4EA3-B698-8CB35567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96971-F8A2-4C00-93A4-AEEB93E8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9A1BF-D965-487D-912D-2207494C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8013C-2D1B-4F26-BBE9-411546D3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F5F0A-A76F-4DFD-AB4A-3E67C409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5BAA-B18C-4960-92DD-B1B2B74D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C2A82-E693-4C8F-BC69-15880B57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A55BC-7F8F-4E0F-9C7D-7F8E8E09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59D5B-C141-4C46-AE26-1B749B16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0961" descr=""/>
          <p:cNvPicPr/>
          <p:nvPr/>
        </p:nvPicPr>
        <p:blipFill>
          <a:blip r:embed="rId3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40962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2" name="椭圆 40963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40964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40965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40966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40967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5053-A489-4DC8-80EF-EB46E853155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F02C-4D18-4617-BFFA-C5EBD5E9C88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FD58-33AA-42FC-9C7E-D7EA697675F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79A4-E83F-46BD-B162-F67BF50DF6B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985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49" name="椭圆 41986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1987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1988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1989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1990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1991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E48F-4ABB-42F0-B556-FA31306D7CD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A0BB-CCFE-4AD1-8E4D-A4ECE868917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A5BF-843C-47CE-9634-5C6F9BDF107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30BA-00D7-44B7-B3C8-2920565292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2FA0-58A0-4A83-8B9E-72CB7D5FA27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76F2-BD5B-47D8-B353-CA43FCEB937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7E14-451B-4F55-92C4-BC8D9F75666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173E-BAFE-4809-93D2-DE3AA67CE2D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354,1,&#24187;&#28783;&#29255; 1" TargetMode="External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3" descr="PPT图标黄色"/>
          <p:cNvPicPr/>
          <p:nvPr/>
        </p:nvPicPr>
        <p:blipFill>
          <a:blip r:embed="rId1"/>
          <a:srcRect l="14592" t="0" r="0" b="0"/>
          <a:stretch/>
        </p:blipFill>
        <p:spPr>
          <a:xfrm>
            <a:off x="77760" y="73080"/>
            <a:ext cx="3228840" cy="714240"/>
          </a:xfrm>
          <a:prstGeom prst="rect">
            <a:avLst/>
          </a:prstGeom>
          <a:ln w="0">
            <a:noFill/>
          </a:ln>
        </p:spPr>
      </p:pic>
      <p:sp>
        <p:nvSpPr>
          <p:cNvPr id="507" name="文本框 1"/>
          <p:cNvSpPr/>
          <p:nvPr/>
        </p:nvSpPr>
        <p:spPr>
          <a:xfrm>
            <a:off x="490320" y="73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新课导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8" name="矩形 7" descr=""/>
          <p:cNvPicPr/>
          <p:nvPr/>
        </p:nvPicPr>
        <p:blipFill>
          <a:blip r:embed="rId2"/>
          <a:stretch/>
        </p:blipFill>
        <p:spPr>
          <a:xfrm>
            <a:off x="950760" y="895320"/>
            <a:ext cx="8452080" cy="454680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8" descr="t019ff215cc2896bacc"/>
          <p:cNvPicPr/>
          <p:nvPr/>
        </p:nvPicPr>
        <p:blipFill>
          <a:blip r:embed="rId3"/>
          <a:stretch/>
        </p:blipFill>
        <p:spPr>
          <a:xfrm rot="1740000">
            <a:off x="10091520" y="339840"/>
            <a:ext cx="148248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棱台 35"/>
          <p:cNvSpPr/>
          <p:nvPr/>
        </p:nvSpPr>
        <p:spPr>
          <a:xfrm>
            <a:off x="1487520" y="981000"/>
            <a:ext cx="7848720" cy="403236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1" name="棱台 36" descr=""/>
          <p:cNvPicPr/>
          <p:nvPr/>
        </p:nvPicPr>
        <p:blipFill>
          <a:blip r:embed="rId1"/>
          <a:stretch/>
        </p:blipFill>
        <p:spPr>
          <a:xfrm>
            <a:off x="1554120" y="1119240"/>
            <a:ext cx="7139160" cy="3538440"/>
          </a:xfrm>
          <a:prstGeom prst="rect">
            <a:avLst/>
          </a:prstGeom>
          <a:ln w="0">
            <a:noFill/>
          </a:ln>
        </p:spPr>
      </p:pic>
      <p:sp>
        <p:nvSpPr>
          <p:cNvPr id="612" name="棱台 38"/>
          <p:cNvSpPr/>
          <p:nvPr/>
        </p:nvSpPr>
        <p:spPr>
          <a:xfrm>
            <a:off x="1325520" y="865080"/>
            <a:ext cx="7710480" cy="4402080"/>
          </a:xfrm>
          <a:prstGeom prst="bevel">
            <a:avLst>
              <a:gd name="adj" fmla="val 12500"/>
            </a:avLst>
          </a:prstGeom>
          <a:solidFill>
            <a:srgbClr val="cceaf4"/>
          </a:solidFill>
          <a:ln w="9360">
            <a:solidFill>
              <a:srgbClr val="fbfc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1d41d5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本文主要写了</a:t>
            </a:r>
            <a:r>
              <a:rPr b="0" i="1" lang="en-US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我</a:t>
            </a:r>
            <a:r>
              <a:rPr b="0" i="1" lang="en-US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”</a:t>
            </a:r>
            <a:r>
              <a:rPr b="0" i="1" lang="zh-CN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和母亲搭船去外祖父家的路上碰见一只</a:t>
            </a:r>
            <a:r>
              <a:rPr b="0" i="1" lang="zh-CN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    </a:t>
            </a:r>
            <a:r>
              <a:rPr b="0" i="1" lang="zh-CN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，</a:t>
            </a:r>
            <a:r>
              <a:rPr b="0" i="1" lang="en-US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我</a:t>
            </a:r>
            <a:r>
              <a:rPr b="0" i="1" lang="en-US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”</a:t>
            </a:r>
            <a:r>
              <a:rPr b="0" i="1" lang="zh-CN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观察到它的样子十分</a:t>
            </a:r>
            <a:r>
              <a:rPr b="0" i="1" lang="zh-CN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    </a:t>
            </a:r>
            <a:r>
              <a:rPr b="0" i="1" lang="zh-CN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，它捕鱼十分</a:t>
            </a:r>
            <a:r>
              <a:rPr b="0" i="1" lang="zh-CN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     </a:t>
            </a:r>
            <a:r>
              <a:rPr b="0" i="1" lang="zh-CN" sz="4000" spc="-1" strike="noStrike" u="sng">
                <a:solidFill>
                  <a:srgbClr val="28082d"/>
                </a:solidFill>
                <a:uFillTx/>
                <a:latin typeface="文鼎CS魏碑"/>
                <a:ea typeface="宋体"/>
              </a:rPr>
              <a:t>的故事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文本框 39"/>
          <p:cNvSpPr/>
          <p:nvPr/>
        </p:nvSpPr>
        <p:spPr>
          <a:xfrm>
            <a:off x="3402000" y="2643120"/>
            <a:ext cx="13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文鼎CS魏碑"/>
                <a:ea typeface="宋体"/>
              </a:rPr>
              <a:t>翠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文本框 40"/>
          <p:cNvSpPr/>
          <p:nvPr/>
        </p:nvSpPr>
        <p:spPr>
          <a:xfrm>
            <a:off x="4971960" y="322884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文鼎CS魏碑"/>
                <a:ea typeface="宋体"/>
              </a:rPr>
              <a:t>美丽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文本框 41"/>
          <p:cNvSpPr/>
          <p:nvPr/>
        </p:nvSpPr>
        <p:spPr>
          <a:xfrm>
            <a:off x="3002040" y="38512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文鼎CS魏碑"/>
                <a:ea typeface="宋体"/>
              </a:rPr>
              <a:t>敏捷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6" name="图片 43" descr=""/>
          <p:cNvPicPr/>
          <p:nvPr/>
        </p:nvPicPr>
        <p:blipFill>
          <a:blip r:embed="rId2"/>
          <a:stretch/>
        </p:blipFill>
        <p:spPr>
          <a:xfrm>
            <a:off x="9532800" y="92160"/>
            <a:ext cx="2314800" cy="2100240"/>
          </a:xfrm>
          <a:prstGeom prst="rect">
            <a:avLst/>
          </a:prstGeom>
          <a:ln w="0">
            <a:noFill/>
          </a:ln>
        </p:spPr>
      </p:pic>
      <p:grpSp>
        <p:nvGrpSpPr>
          <p:cNvPr id="617" name="组合 9"/>
          <p:cNvGrpSpPr/>
          <p:nvPr/>
        </p:nvGrpSpPr>
        <p:grpSpPr>
          <a:xfrm>
            <a:off x="138240" y="144360"/>
            <a:ext cx="3228840" cy="714600"/>
            <a:chOff x="138240" y="144360"/>
            <a:chExt cx="3228840" cy="714600"/>
          </a:xfrm>
        </p:grpSpPr>
        <p:pic>
          <p:nvPicPr>
            <p:cNvPr id="618" name="图片 11" descr="PPT图标黄色"/>
            <p:cNvPicPr/>
            <p:nvPr/>
          </p:nvPicPr>
          <p:blipFill>
            <a:blip r:embed="rId3"/>
            <a:srcRect l="14592" t="0" r="0" b="0"/>
            <a:stretch/>
          </p:blipFill>
          <p:spPr>
            <a:xfrm>
              <a:off x="138240" y="144360"/>
              <a:ext cx="32288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文本框 16"/>
            <p:cNvSpPr/>
            <p:nvPr/>
          </p:nvSpPr>
          <p:spPr>
            <a:xfrm>
              <a:off x="550440" y="15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整体感知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组合 9"/>
          <p:cNvGrpSpPr/>
          <p:nvPr/>
        </p:nvGrpSpPr>
        <p:grpSpPr>
          <a:xfrm>
            <a:off x="138240" y="144360"/>
            <a:ext cx="3228840" cy="714600"/>
            <a:chOff x="138240" y="144360"/>
            <a:chExt cx="3228840" cy="714600"/>
          </a:xfrm>
        </p:grpSpPr>
        <p:pic>
          <p:nvPicPr>
            <p:cNvPr id="621" name="图片 11" descr="PPT图标黄色"/>
            <p:cNvPicPr/>
            <p:nvPr/>
          </p:nvPicPr>
          <p:blipFill>
            <a:blip r:embed="rId1"/>
            <a:srcRect l="14592" t="0" r="0" b="0"/>
            <a:stretch/>
          </p:blipFill>
          <p:spPr>
            <a:xfrm>
              <a:off x="138240" y="144360"/>
              <a:ext cx="32288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文本框 16"/>
            <p:cNvSpPr/>
            <p:nvPr/>
          </p:nvSpPr>
          <p:spPr>
            <a:xfrm>
              <a:off x="550440" y="15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课文解读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23" name="平行四边形 1" descr=""/>
          <p:cNvPicPr/>
          <p:nvPr/>
        </p:nvPicPr>
        <p:blipFill>
          <a:blip r:embed="rId2"/>
          <a:stretch/>
        </p:blipFill>
        <p:spPr>
          <a:xfrm>
            <a:off x="950760" y="1495440"/>
            <a:ext cx="8237520" cy="755640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2"/>
          <p:cNvSpPr/>
          <p:nvPr/>
        </p:nvSpPr>
        <p:spPr>
          <a:xfrm>
            <a:off x="2216160" y="3281400"/>
            <a:ext cx="47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喜欢这只小鸟吗？为什么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文本框 3"/>
          <p:cNvSpPr/>
          <p:nvPr/>
        </p:nvSpPr>
        <p:spPr>
          <a:xfrm>
            <a:off x="2216160" y="1755720"/>
            <a:ext cx="56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“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是怎样遇见这只小鸟的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图片 1" descr=""/>
          <p:cNvPicPr/>
          <p:nvPr/>
        </p:nvPicPr>
        <p:blipFill>
          <a:blip r:embed="rId1"/>
          <a:stretch/>
        </p:blipFill>
        <p:spPr>
          <a:xfrm>
            <a:off x="-11160" y="0"/>
            <a:ext cx="1221444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5"/>
          <p:cNvSpPr/>
          <p:nvPr/>
        </p:nvSpPr>
        <p:spPr>
          <a:xfrm>
            <a:off x="1308240" y="701640"/>
            <a:ext cx="9575640" cy="2560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576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和母亲坐着小船，到乡下外祖父家里去。我们坐在船舱里。天下着大雨，雨点打在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楷体"/>
                <a:ea typeface="楷体"/>
                <a:hlinkClick r:id="rId2"/>
              </a:rPr>
              <a:t>船篷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上，沙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啦、沙啦地响。船夫披着蓑衣在船后用力地摇着橹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132000" y="404640"/>
            <a:ext cx="1800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9" name="组合 4"/>
          <p:cNvGrpSpPr/>
          <p:nvPr/>
        </p:nvGrpSpPr>
        <p:grpSpPr>
          <a:xfrm>
            <a:off x="1308240" y="6858000"/>
            <a:ext cx="9804240" cy="1338480"/>
            <a:chOff x="1308240" y="6858000"/>
            <a:chExt cx="9804240" cy="1338480"/>
          </a:xfrm>
        </p:grpSpPr>
        <p:sp>
          <p:nvSpPr>
            <p:cNvPr id="630" name="文本框 1"/>
            <p:cNvSpPr/>
            <p:nvPr/>
          </p:nvSpPr>
          <p:spPr>
            <a:xfrm>
              <a:off x="9850680" y="6858000"/>
              <a:ext cx="126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ff0000"/>
                  </a:solidFill>
                  <a:uFillTx/>
                  <a:latin typeface="楷体"/>
                  <a:ea typeface="楷体"/>
                </a:rPr>
                <a:t>沙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1" name="文本框 2"/>
            <p:cNvSpPr/>
            <p:nvPr/>
          </p:nvSpPr>
          <p:spPr>
            <a:xfrm>
              <a:off x="2125440" y="7615080"/>
              <a:ext cx="129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ff0000"/>
                  </a:solidFill>
                  <a:uFillTx/>
                  <a:latin typeface="楷体"/>
                  <a:ea typeface="楷体"/>
                </a:rPr>
                <a:t>沙啦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2" name="文本框 3"/>
            <p:cNvSpPr/>
            <p:nvPr/>
          </p:nvSpPr>
          <p:spPr>
            <a:xfrm>
              <a:off x="1308240" y="7615080"/>
              <a:ext cx="84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ff0000"/>
                  </a:solidFill>
                  <a:uFillTx/>
                  <a:latin typeface="楷体"/>
                  <a:ea typeface="楷体"/>
                </a:rPr>
                <a:t>啦、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33" name="文本框 5"/>
          <p:cNvSpPr/>
          <p:nvPr/>
        </p:nvSpPr>
        <p:spPr>
          <a:xfrm>
            <a:off x="1916280" y="3373560"/>
            <a:ext cx="83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沙啦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是雨点打在雨棚上的声音，仿佛让我们听到，感到下大雨的情景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文本框 6"/>
          <p:cNvSpPr/>
          <p:nvPr/>
        </p:nvSpPr>
        <p:spPr>
          <a:xfrm>
            <a:off x="2127240" y="4711680"/>
            <a:ext cx="65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你还能说出那些拟声词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69 -0.017685 L 0.001875 -0.744907 E">
                                      <p:cBhvr>
                                        <p:cTn id="338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1" descr=""/>
          <p:cNvPicPr/>
          <p:nvPr/>
        </p:nvPicPr>
        <p:blipFill>
          <a:blip r:embed="rId1"/>
          <a:stretch/>
        </p:blipFill>
        <p:spPr>
          <a:xfrm>
            <a:off x="61920" y="50760"/>
            <a:ext cx="12445920" cy="699156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5"/>
          <p:cNvSpPr/>
          <p:nvPr/>
        </p:nvSpPr>
        <p:spPr>
          <a:xfrm>
            <a:off x="1168560" y="2182680"/>
            <a:ext cx="9575640" cy="895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576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多么美丽的小鸟呀！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你能找出相关的句子来说明这只小鸟美丽吗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3132000" y="404640"/>
            <a:ext cx="1800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38" name="图片 1" descr="t019ff215cc2896bacc"/>
          <p:cNvPicPr/>
          <p:nvPr/>
        </p:nvPicPr>
        <p:blipFill>
          <a:blip r:embed="rId2"/>
          <a:stretch/>
        </p:blipFill>
        <p:spPr>
          <a:xfrm rot="20220000">
            <a:off x="1712520" y="642600"/>
            <a:ext cx="153036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图片 13" descr=""/>
          <p:cNvPicPr/>
          <p:nvPr/>
        </p:nvPicPr>
        <p:blipFill>
          <a:blip r:embed="rId1"/>
          <a:stretch/>
        </p:blipFill>
        <p:spPr>
          <a:xfrm>
            <a:off x="6480" y="0"/>
            <a:ext cx="1217916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4"/>
          <p:cNvSpPr/>
          <p:nvPr/>
        </p:nvSpPr>
        <p:spPr>
          <a:xfrm>
            <a:off x="1535040" y="1192320"/>
            <a:ext cx="9552240" cy="776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的羽毛是翠绿的，翅膀带着一些蓝色，比鹦鹉还漂亮。他还有一张红色的长嘴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4656240" y="404640"/>
            <a:ext cx="18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文本框 1"/>
          <p:cNvSpPr/>
          <p:nvPr/>
        </p:nvSpPr>
        <p:spPr>
          <a:xfrm>
            <a:off x="4392720" y="-58428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b050"/>
                </a:solidFill>
                <a:uFillTx/>
                <a:latin typeface="楷体"/>
                <a:ea typeface="楷体"/>
              </a:rPr>
              <a:t>翠绿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文本框 2"/>
          <p:cNvSpPr/>
          <p:nvPr/>
        </p:nvSpPr>
        <p:spPr>
          <a:xfrm>
            <a:off x="8526600" y="-58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70c0"/>
                </a:solidFill>
                <a:uFillTx/>
                <a:latin typeface="楷体"/>
                <a:ea typeface="楷体"/>
              </a:rPr>
              <a:t>蓝色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4" name="文本框 3"/>
          <p:cNvSpPr/>
          <p:nvPr/>
        </p:nvSpPr>
        <p:spPr>
          <a:xfrm>
            <a:off x="5637240" y="6858000"/>
            <a:ext cx="10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红色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5" name="组合 11"/>
          <p:cNvGrpSpPr/>
          <p:nvPr/>
        </p:nvGrpSpPr>
        <p:grpSpPr>
          <a:xfrm>
            <a:off x="1822320" y="1889280"/>
            <a:ext cx="8653680" cy="777600"/>
            <a:chOff x="1822320" y="1889280"/>
            <a:chExt cx="8653680" cy="777600"/>
          </a:xfrm>
        </p:grpSpPr>
        <p:sp>
          <p:nvSpPr>
            <p:cNvPr id="646" name="椭圆 5"/>
            <p:cNvSpPr/>
            <p:nvPr/>
          </p:nvSpPr>
          <p:spPr>
            <a:xfrm>
              <a:off x="9992160" y="1889280"/>
              <a:ext cx="7560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7" name="椭圆 6"/>
            <p:cNvSpPr/>
            <p:nvPr/>
          </p:nvSpPr>
          <p:spPr>
            <a:xfrm>
              <a:off x="10400400" y="1889280"/>
              <a:ext cx="7560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8" name="椭圆 7"/>
            <p:cNvSpPr/>
            <p:nvPr/>
          </p:nvSpPr>
          <p:spPr>
            <a:xfrm>
              <a:off x="1822320" y="2591280"/>
              <a:ext cx="7560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9" name="椭圆 8"/>
            <p:cNvSpPr/>
            <p:nvPr/>
          </p:nvSpPr>
          <p:spPr>
            <a:xfrm>
              <a:off x="2199960" y="2591280"/>
              <a:ext cx="7560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0" name="椭圆 9"/>
            <p:cNvSpPr/>
            <p:nvPr/>
          </p:nvSpPr>
          <p:spPr>
            <a:xfrm>
              <a:off x="3026880" y="2591280"/>
              <a:ext cx="7524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1" name="椭圆 10"/>
            <p:cNvSpPr/>
            <p:nvPr/>
          </p:nvSpPr>
          <p:spPr>
            <a:xfrm>
              <a:off x="2659320" y="2591280"/>
              <a:ext cx="7560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52" name="图片 12" descr=""/>
          <p:cNvPicPr/>
          <p:nvPr/>
        </p:nvPicPr>
        <p:blipFill>
          <a:blip r:embed="rId2"/>
          <a:stretch/>
        </p:blipFill>
        <p:spPr>
          <a:xfrm>
            <a:off x="2278080" y="2890800"/>
            <a:ext cx="2738520" cy="351324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13" descr=""/>
          <p:cNvPicPr/>
          <p:nvPr/>
        </p:nvPicPr>
        <p:blipFill>
          <a:blip r:embed="rId3"/>
          <a:stretch/>
        </p:blipFill>
        <p:spPr>
          <a:xfrm>
            <a:off x="7908840" y="2098800"/>
            <a:ext cx="2376720" cy="3413160"/>
          </a:xfrm>
          <a:prstGeom prst="rect">
            <a:avLst/>
          </a:prstGeom>
          <a:ln w="0">
            <a:noFill/>
          </a:ln>
        </p:spPr>
      </p:pic>
      <p:sp>
        <p:nvSpPr>
          <p:cNvPr id="654" name="文本框 14"/>
          <p:cNvSpPr/>
          <p:nvPr/>
        </p:nvSpPr>
        <p:spPr>
          <a:xfrm>
            <a:off x="5288040" y="351324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谁更漂亮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56 0.003148 L 0.000104 0.286574 E">
                                      <p:cBhvr>
                                        <p:cTn id="356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0.000925 L -0.003958 0.282594 E">
                                      <p:cBhvr>
                                        <p:cTn id="360" dur="2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151 -0.7 E">
                                      <p:cBhvr>
                                        <p:cTn id="36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图片 1" descr=""/>
          <p:cNvPicPr/>
          <p:nvPr/>
        </p:nvPicPr>
        <p:blipFill>
          <a:blip r:embed="rId1"/>
          <a:stretch/>
        </p:blipFill>
        <p:spPr>
          <a:xfrm>
            <a:off x="-266760" y="0"/>
            <a:ext cx="12445920" cy="698976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170000" y="853920"/>
            <a:ext cx="9574200" cy="993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576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看见一只彩色的小鸟站在船头，多么的美丽啊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3132000" y="404640"/>
            <a:ext cx="1800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文本框 1"/>
          <p:cNvSpPr/>
          <p:nvPr/>
        </p:nvSpPr>
        <p:spPr>
          <a:xfrm>
            <a:off x="4280040" y="2843280"/>
            <a:ext cx="15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彩色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9" name="图片 3" descr=""/>
          <p:cNvPicPr/>
          <p:nvPr/>
        </p:nvPicPr>
        <p:blipFill>
          <a:blip r:embed="rId2"/>
          <a:stretch/>
        </p:blipFill>
        <p:spPr>
          <a:xfrm>
            <a:off x="6448320" y="2484360"/>
            <a:ext cx="3703680" cy="3157560"/>
          </a:xfrm>
          <a:prstGeom prst="rect">
            <a:avLst/>
          </a:prstGeom>
          <a:ln w="0">
            <a:noFill/>
          </a:ln>
        </p:spPr>
      </p:pic>
      <p:grpSp>
        <p:nvGrpSpPr>
          <p:cNvPr id="660" name="组合 7"/>
          <p:cNvGrpSpPr/>
          <p:nvPr/>
        </p:nvGrpSpPr>
        <p:grpSpPr>
          <a:xfrm>
            <a:off x="9182160" y="1758960"/>
            <a:ext cx="545760" cy="77760"/>
            <a:chOff x="9182160" y="1758960"/>
            <a:chExt cx="545760" cy="77760"/>
          </a:xfrm>
        </p:grpSpPr>
        <p:sp>
          <p:nvSpPr>
            <p:cNvPr id="661" name="椭圆 5"/>
            <p:cNvSpPr/>
            <p:nvPr/>
          </p:nvSpPr>
          <p:spPr>
            <a:xfrm flipV="1">
              <a:off x="9182160" y="1759680"/>
              <a:ext cx="75960" cy="77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2" name="椭圆 6"/>
            <p:cNvSpPr/>
            <p:nvPr/>
          </p:nvSpPr>
          <p:spPr>
            <a:xfrm flipV="1">
              <a:off x="9651960" y="1758960"/>
              <a:ext cx="75960" cy="77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97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图片 1" descr=""/>
          <p:cNvPicPr/>
          <p:nvPr/>
        </p:nvPicPr>
        <p:blipFill>
          <a:blip r:embed="rId1"/>
          <a:stretch/>
        </p:blipFill>
        <p:spPr>
          <a:xfrm>
            <a:off x="-246240" y="20520"/>
            <a:ext cx="12446280" cy="6989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64" name="Text Box 7"/>
          <p:cNvSpPr/>
          <p:nvPr/>
        </p:nvSpPr>
        <p:spPr>
          <a:xfrm>
            <a:off x="3132000" y="404640"/>
            <a:ext cx="1800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65" name="组合 10"/>
          <p:cNvGrpSpPr/>
          <p:nvPr/>
        </p:nvGrpSpPr>
        <p:grpSpPr>
          <a:xfrm>
            <a:off x="6099120" y="387720"/>
            <a:ext cx="4712040" cy="3165120"/>
            <a:chOff x="6099120" y="387720"/>
            <a:chExt cx="4712040" cy="3165120"/>
          </a:xfrm>
        </p:grpSpPr>
        <p:sp>
          <p:nvSpPr>
            <p:cNvPr id="666" name="云形标注 8"/>
            <p:cNvSpPr/>
            <p:nvPr/>
          </p:nvSpPr>
          <p:spPr>
            <a:xfrm rot="300000">
              <a:off x="6211800" y="577800"/>
              <a:ext cx="4486320" cy="2784600"/>
            </a:xfrm>
            <a:prstGeom prst="cloudCallout">
              <a:avLst>
                <a:gd name="adj1" fmla="val -20833"/>
                <a:gd name="adj2" fmla="val 62500"/>
              </a:avLst>
            </a:prstGeom>
            <a:noFill/>
            <a:ln w="9360">
              <a:solidFill>
                <a:srgbClr val="bbc0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7" name="文本框 9"/>
            <p:cNvSpPr/>
            <p:nvPr/>
          </p:nvSpPr>
          <p:spPr>
            <a:xfrm rot="300000">
              <a:off x="6831360" y="1222560"/>
              <a:ext cx="390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它是什么时候飞来的呢？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68" name="组合 12"/>
          <p:cNvGrpSpPr/>
          <p:nvPr/>
        </p:nvGrpSpPr>
        <p:grpSpPr>
          <a:xfrm>
            <a:off x="703080" y="2294280"/>
            <a:ext cx="5781240" cy="3378240"/>
            <a:chOff x="703080" y="2294280"/>
            <a:chExt cx="5781240" cy="3378240"/>
          </a:xfrm>
        </p:grpSpPr>
        <p:sp>
          <p:nvSpPr>
            <p:cNvPr id="669" name="文本框 2"/>
            <p:cNvSpPr/>
            <p:nvPr/>
          </p:nvSpPr>
          <p:spPr>
            <a:xfrm rot="300000">
              <a:off x="1378080" y="3370320"/>
              <a:ext cx="5058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它站在哪里做什么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呢？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0" name="云形标注 11"/>
            <p:cNvSpPr/>
            <p:nvPr/>
          </p:nvSpPr>
          <p:spPr>
            <a:xfrm rot="11460000">
              <a:off x="894240" y="2742120"/>
              <a:ext cx="4933080" cy="2482560"/>
            </a:xfrm>
            <a:prstGeom prst="cloudCallout">
              <a:avLst>
                <a:gd name="adj1" fmla="val -20833"/>
                <a:gd name="adj2" fmla="val 62500"/>
              </a:avLst>
            </a:prstGeom>
            <a:noFill/>
            <a:ln w="9360">
              <a:solidFill>
                <a:srgbClr val="ced6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71" name="文本框 13"/>
          <p:cNvSpPr/>
          <p:nvPr/>
        </p:nvSpPr>
        <p:spPr>
          <a:xfrm>
            <a:off x="1255680" y="1330200"/>
            <a:ext cx="44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多么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美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的小鸟呀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文本框 14"/>
          <p:cNvSpPr/>
          <p:nvPr/>
        </p:nvSpPr>
        <p:spPr>
          <a:xfrm>
            <a:off x="6726240" y="3963960"/>
            <a:ext cx="439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70c0"/>
                </a:solidFill>
                <a:uFillTx/>
                <a:latin typeface="楷体"/>
                <a:ea typeface="楷体"/>
              </a:rPr>
              <a:t>读</a:t>
            </a:r>
            <a:r>
              <a:rPr b="0" i="1" lang="zh-CN" sz="4000" spc="-1" strike="noStrike" u="sng">
                <a:solidFill>
                  <a:srgbClr val="0070c0"/>
                </a:solidFill>
                <a:uFillTx/>
                <a:latin typeface="楷体"/>
                <a:ea typeface="楷体"/>
              </a:rPr>
              <a:t>3-4</a:t>
            </a:r>
            <a:r>
              <a:rPr b="0" i="1" lang="zh-CN" sz="4000" spc="-1" strike="noStrike" u="sng">
                <a:solidFill>
                  <a:srgbClr val="0070c0"/>
                </a:solidFill>
                <a:uFillTx/>
                <a:latin typeface="楷体"/>
                <a:ea typeface="楷体"/>
              </a:rPr>
              <a:t>段，找出答案，画下来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13" descr=""/>
          <p:cNvPicPr/>
          <p:nvPr/>
        </p:nvPicPr>
        <p:blipFill>
          <a:blip r:embed="rId1"/>
          <a:stretch/>
        </p:blipFill>
        <p:spPr>
          <a:xfrm>
            <a:off x="6480" y="0"/>
            <a:ext cx="1217916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4"/>
          <p:cNvSpPr/>
          <p:nvPr/>
        </p:nvSpPr>
        <p:spPr>
          <a:xfrm>
            <a:off x="1319040" y="623880"/>
            <a:ext cx="9553680" cy="145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什么时候飞来的呢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？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静悄悄地停在船头不知道有多久了。它站在那里做什么呢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？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难道它要和我们一起坐船到外祖父家里去吗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4656240" y="404640"/>
            <a:ext cx="18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6" name="文本框 1"/>
          <p:cNvSpPr/>
          <p:nvPr/>
        </p:nvSpPr>
        <p:spPr>
          <a:xfrm>
            <a:off x="1544760" y="306072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这里有三个问句，小作者为什么会产生这么多疑问呢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7" name="文本框 3"/>
          <p:cNvSpPr/>
          <p:nvPr/>
        </p:nvSpPr>
        <p:spPr>
          <a:xfrm>
            <a:off x="1701720" y="4348080"/>
            <a:ext cx="77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排比的修辞手法，体现出小作者对这只美丽小鸟的好奇心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图片 13" descr=""/>
          <p:cNvPicPr/>
          <p:nvPr/>
        </p:nvPicPr>
        <p:blipFill>
          <a:blip r:embed="rId1"/>
          <a:stretch/>
        </p:blipFill>
        <p:spPr>
          <a:xfrm>
            <a:off x="6480" y="0"/>
            <a:ext cx="12179160" cy="685800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4"/>
          <p:cNvSpPr/>
          <p:nvPr/>
        </p:nvSpPr>
        <p:spPr>
          <a:xfrm>
            <a:off x="1382760" y="1084320"/>
            <a:ext cx="9550440" cy="145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站在那里做什么呢？难道它要和我们一起坐船到外祖父家里去吗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4656240" y="404640"/>
            <a:ext cx="18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1" name="文本框 1"/>
          <p:cNvSpPr/>
          <p:nvPr/>
        </p:nvSpPr>
        <p:spPr>
          <a:xfrm>
            <a:off x="2014560" y="314316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作者的猜想对吗？读读第四段，找出相关句子，小组交流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图片 1" descr=""/>
          <p:cNvPicPr/>
          <p:nvPr/>
        </p:nvPicPr>
        <p:blipFill>
          <a:blip r:embed="rId1"/>
          <a:stretch/>
        </p:blipFill>
        <p:spPr>
          <a:xfrm>
            <a:off x="-246240" y="20520"/>
            <a:ext cx="12446280" cy="6989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83" name="Text Box 7"/>
          <p:cNvSpPr/>
          <p:nvPr/>
        </p:nvSpPr>
        <p:spPr>
          <a:xfrm>
            <a:off x="3132000" y="404640"/>
            <a:ext cx="1800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4" name="文本框 1"/>
          <p:cNvSpPr/>
          <p:nvPr/>
        </p:nvSpPr>
        <p:spPr>
          <a:xfrm>
            <a:off x="1154160" y="1461960"/>
            <a:ext cx="952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一下子冲进水里不见了。可是，  没一会儿，它飞起来了，红色的长嘴衔着一条小鱼。它站在船头，一口把小鱼吞了下去。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85" name="组合 17"/>
          <p:cNvGrpSpPr/>
          <p:nvPr/>
        </p:nvGrpSpPr>
        <p:grpSpPr>
          <a:xfrm>
            <a:off x="2760840" y="2065320"/>
            <a:ext cx="1099440" cy="75960"/>
            <a:chOff x="2760840" y="2065320"/>
            <a:chExt cx="1099440" cy="75960"/>
          </a:xfrm>
        </p:grpSpPr>
        <p:sp>
          <p:nvSpPr>
            <p:cNvPr id="686" name="椭圆 3"/>
            <p:cNvSpPr/>
            <p:nvPr/>
          </p:nvSpPr>
          <p:spPr>
            <a:xfrm>
              <a:off x="3249720" y="2065320"/>
              <a:ext cx="75240" cy="75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7" name="椭圆 4"/>
            <p:cNvSpPr/>
            <p:nvPr/>
          </p:nvSpPr>
          <p:spPr>
            <a:xfrm>
              <a:off x="2760840" y="2065320"/>
              <a:ext cx="75240" cy="75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8" name="椭圆 5"/>
            <p:cNvSpPr/>
            <p:nvPr/>
          </p:nvSpPr>
          <p:spPr>
            <a:xfrm flipH="1">
              <a:off x="3783960" y="2065680"/>
              <a:ext cx="7596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89" name="组合 18"/>
          <p:cNvGrpSpPr/>
          <p:nvPr/>
        </p:nvGrpSpPr>
        <p:grpSpPr>
          <a:xfrm>
            <a:off x="1487160" y="2647800"/>
            <a:ext cx="1535040" cy="76320"/>
            <a:chOff x="1487160" y="2647800"/>
            <a:chExt cx="1535040" cy="76320"/>
          </a:xfrm>
        </p:grpSpPr>
        <p:sp>
          <p:nvSpPr>
            <p:cNvPr id="690" name="椭圆 6"/>
            <p:cNvSpPr/>
            <p:nvPr/>
          </p:nvSpPr>
          <p:spPr>
            <a:xfrm flipH="1">
              <a:off x="2027520" y="2647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1" name="椭圆 7"/>
            <p:cNvSpPr/>
            <p:nvPr/>
          </p:nvSpPr>
          <p:spPr>
            <a:xfrm flipH="1">
              <a:off x="2486520" y="2647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2" name="椭圆 15"/>
            <p:cNvSpPr/>
            <p:nvPr/>
          </p:nvSpPr>
          <p:spPr>
            <a:xfrm flipH="1">
              <a:off x="2945880" y="2647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3" name="椭圆 16"/>
            <p:cNvSpPr/>
            <p:nvPr/>
          </p:nvSpPr>
          <p:spPr>
            <a:xfrm flipH="1">
              <a:off x="1486800" y="2647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94" name="文本框 19"/>
          <p:cNvSpPr/>
          <p:nvPr/>
        </p:nvSpPr>
        <p:spPr>
          <a:xfrm>
            <a:off x="1898640" y="4514760"/>
            <a:ext cx="18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速度快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5" name="组合 26" descr=""/>
          <p:cNvPicPr/>
          <p:nvPr/>
        </p:nvPicPr>
        <p:blipFill>
          <a:blip r:embed="rId2"/>
          <a:stretch/>
        </p:blipFill>
        <p:spPr>
          <a:xfrm>
            <a:off x="3930480" y="1901880"/>
            <a:ext cx="6126480" cy="17064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25"/>
          <p:cNvSpPr/>
          <p:nvPr/>
        </p:nvSpPr>
        <p:spPr>
          <a:xfrm>
            <a:off x="4267080" y="451476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动作敏捷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1" descr=""/>
          <p:cNvPicPr/>
          <p:nvPr/>
        </p:nvPicPr>
        <p:blipFill>
          <a:blip r:embed="rId1"/>
          <a:srcRect l="0" t="0" r="3327" b="4362"/>
          <a:stretch/>
        </p:blipFill>
        <p:spPr>
          <a:xfrm>
            <a:off x="4680" y="-15840"/>
            <a:ext cx="1221444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图片 1" descr=""/>
          <p:cNvPicPr/>
          <p:nvPr/>
        </p:nvPicPr>
        <p:blipFill>
          <a:blip r:embed="rId1"/>
          <a:stretch/>
        </p:blipFill>
        <p:spPr>
          <a:xfrm>
            <a:off x="-246240" y="20520"/>
            <a:ext cx="12446280" cy="6989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98" name="Text Box 7"/>
          <p:cNvSpPr/>
          <p:nvPr/>
        </p:nvSpPr>
        <p:spPr>
          <a:xfrm>
            <a:off x="3132000" y="404640"/>
            <a:ext cx="1800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9" name="文本框 1"/>
          <p:cNvSpPr/>
          <p:nvPr/>
        </p:nvSpPr>
        <p:spPr>
          <a:xfrm>
            <a:off x="1611360" y="11858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一下子冲进水里不见了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0" name="文本框 2"/>
          <p:cNvSpPr/>
          <p:nvPr/>
        </p:nvSpPr>
        <p:spPr>
          <a:xfrm>
            <a:off x="2043000" y="2230560"/>
            <a:ext cx="82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发挥你的想象，省略号省去了什么内容？小组讨论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图片 13" descr=""/>
          <p:cNvPicPr/>
          <p:nvPr/>
        </p:nvPicPr>
        <p:blipFill>
          <a:blip r:embed="rId1"/>
          <a:stretch/>
        </p:blipFill>
        <p:spPr>
          <a:xfrm>
            <a:off x="6480" y="0"/>
            <a:ext cx="1217916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4"/>
          <p:cNvSpPr/>
          <p:nvPr/>
        </p:nvSpPr>
        <p:spPr>
          <a:xfrm>
            <a:off x="1382760" y="1084320"/>
            <a:ext cx="9550440" cy="145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站在那里做什么呢？难道它要和我们一起坐船到外祖父家里去吗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4656240" y="404640"/>
            <a:ext cx="18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2014560" y="314316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作者的猜想对吗？你能换种语气来说说这句话是意思不变吗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5" name="文本框 2"/>
          <p:cNvSpPr/>
          <p:nvPr/>
        </p:nvSpPr>
        <p:spPr>
          <a:xfrm>
            <a:off x="2014560" y="4316400"/>
            <a:ext cx="73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不要和我们一起坐船到外祖父家里去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图片 2" descr=""/>
          <p:cNvPicPr/>
          <p:nvPr/>
        </p:nvPicPr>
        <p:blipFill>
          <a:blip r:embed="rId1"/>
          <a:stretch/>
        </p:blipFill>
        <p:spPr>
          <a:xfrm>
            <a:off x="6480" y="-27000"/>
            <a:ext cx="12196800" cy="686592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950760" y="1454040"/>
            <a:ext cx="1034424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这只“搭船的鸟”到底到底是一只什么鸟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图片 13" descr=""/>
          <p:cNvPicPr/>
          <p:nvPr/>
        </p:nvPicPr>
        <p:blipFill>
          <a:blip r:embed="rId1"/>
          <a:stretch/>
        </p:blipFill>
        <p:spPr>
          <a:xfrm>
            <a:off x="6480" y="0"/>
            <a:ext cx="12179160" cy="68580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4"/>
          <p:cNvSpPr/>
          <p:nvPr/>
        </p:nvSpPr>
        <p:spPr>
          <a:xfrm>
            <a:off x="1701720" y="1157400"/>
            <a:ext cx="8786880" cy="1245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母亲告诉我，这是一只翠鸟。哦，这只翠鸟搭了我们的船，在捕鱼吃呢。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0" name="Text Box 5"/>
          <p:cNvSpPr/>
          <p:nvPr/>
        </p:nvSpPr>
        <p:spPr>
          <a:xfrm>
            <a:off x="4656240" y="404640"/>
            <a:ext cx="18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1" name="线形标注 2 1"/>
          <p:cNvSpPr/>
          <p:nvPr/>
        </p:nvSpPr>
        <p:spPr>
          <a:xfrm>
            <a:off x="9021600" y="4299120"/>
            <a:ext cx="1665360" cy="736560"/>
          </a:xfrm>
          <a:prstGeom prst="borderCallout2">
            <a:avLst>
              <a:gd name="adj1" fmla="val 18750"/>
              <a:gd name="adj2" fmla="val -8333"/>
              <a:gd name="adj3" fmla="val 22388"/>
              <a:gd name="adj4" fmla="val -22337"/>
              <a:gd name="adj5" fmla="val -104282"/>
              <a:gd name="adj6" fmla="val -34625"/>
            </a:avLst>
          </a:prstGeom>
          <a:noFill/>
          <a:ln w="936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Arial"/>
                <a:ea typeface="宋体"/>
              </a:rPr>
              <a:t>乘；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图片 2" descr=""/>
          <p:cNvPicPr/>
          <p:nvPr/>
        </p:nvPicPr>
        <p:blipFill>
          <a:blip r:embed="rId1"/>
          <a:stretch/>
        </p:blipFill>
        <p:spPr>
          <a:xfrm>
            <a:off x="6480" y="-27000"/>
            <a:ext cx="12196800" cy="6865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950760" y="1454040"/>
            <a:ext cx="1034424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们应该怎样和鸟儿相处呢？小组讨论，相互评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图片 2" descr=""/>
          <p:cNvPicPr/>
          <p:nvPr/>
        </p:nvPicPr>
        <p:blipFill>
          <a:blip r:embed="rId1"/>
          <a:stretch/>
        </p:blipFill>
        <p:spPr>
          <a:xfrm>
            <a:off x="6480" y="-27000"/>
            <a:ext cx="12196800" cy="686592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957240" y="976320"/>
            <a:ext cx="538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儿是人类的好朋友，我们应该和他们和谐相处，不能因为它们外表美丽而伤害它。我们还可以多植树木，这样鸟儿就会有更多活动的地方，我们的生活会更加美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图片 3" descr=""/>
          <p:cNvPicPr/>
          <p:nvPr/>
        </p:nvPicPr>
        <p:blipFill>
          <a:blip r:embed="rId2"/>
          <a:stretch/>
        </p:blipFill>
        <p:spPr>
          <a:xfrm>
            <a:off x="7496280" y="393840"/>
            <a:ext cx="404640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图片 2" descr=""/>
          <p:cNvPicPr/>
          <p:nvPr/>
        </p:nvPicPr>
        <p:blipFill>
          <a:blip r:embed="rId1"/>
          <a:stretch/>
        </p:blipFill>
        <p:spPr>
          <a:xfrm>
            <a:off x="-1440" y="-3240"/>
            <a:ext cx="12195000" cy="686448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823680" y="1832040"/>
            <a:ext cx="10341000" cy="14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外形——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捕鱼——迅速、敏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图片 3" descr="PPT图标黄色"/>
          <p:cNvPicPr/>
          <p:nvPr/>
        </p:nvPicPr>
        <p:blipFill>
          <a:blip r:embed="rId2"/>
          <a:srcRect l="14592" t="0" r="0" b="0"/>
          <a:stretch/>
        </p:blipFill>
        <p:spPr>
          <a:xfrm>
            <a:off x="127080" y="133200"/>
            <a:ext cx="3230640" cy="71460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1"/>
          <p:cNvSpPr/>
          <p:nvPr/>
        </p:nvSpPr>
        <p:spPr>
          <a:xfrm>
            <a:off x="6480" y="13644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结构梳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1" name="文本框 2"/>
          <p:cNvSpPr/>
          <p:nvPr/>
        </p:nvSpPr>
        <p:spPr>
          <a:xfrm>
            <a:off x="660240" y="2700360"/>
            <a:ext cx="284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搭船的鸟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（翠鸟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2" name="文本框 4"/>
          <p:cNvSpPr/>
          <p:nvPr/>
        </p:nvSpPr>
        <p:spPr>
          <a:xfrm>
            <a:off x="8636040" y="2352600"/>
            <a:ext cx="382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人与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和谐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相处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图片 2" descr=""/>
          <p:cNvPicPr/>
          <p:nvPr/>
        </p:nvPicPr>
        <p:blipFill>
          <a:blip r:embed="rId1"/>
          <a:stretch/>
        </p:blipFill>
        <p:spPr>
          <a:xfrm>
            <a:off x="6480" y="-3240"/>
            <a:ext cx="12196800" cy="686448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3" descr="PPT图标黄色"/>
          <p:cNvPicPr/>
          <p:nvPr/>
        </p:nvPicPr>
        <p:blipFill>
          <a:blip r:embed="rId2"/>
          <a:srcRect l="14592" t="0" r="0" b="0"/>
          <a:stretch/>
        </p:blipFill>
        <p:spPr>
          <a:xfrm>
            <a:off x="127080" y="133200"/>
            <a:ext cx="3230640" cy="714600"/>
          </a:xfrm>
          <a:prstGeom prst="rect">
            <a:avLst/>
          </a:prstGeom>
          <a:ln w="0">
            <a:noFill/>
          </a:ln>
        </p:spPr>
      </p:pic>
      <p:sp>
        <p:nvSpPr>
          <p:cNvPr id="725" name="文本框 1"/>
          <p:cNvSpPr/>
          <p:nvPr/>
        </p:nvSpPr>
        <p:spPr>
          <a:xfrm>
            <a:off x="6480" y="13644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随堂练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6" name="圆角矩形 6"/>
          <p:cNvSpPr/>
          <p:nvPr/>
        </p:nvSpPr>
        <p:spPr>
          <a:xfrm>
            <a:off x="264960" y="1128600"/>
            <a:ext cx="10892160" cy="3843360"/>
          </a:xfrm>
          <a:prstGeom prst="roundRect">
            <a:avLst>
              <a:gd name="adj" fmla="val 16667"/>
            </a:avLst>
          </a:prstGeom>
          <a:solidFill>
            <a:srgbClr val="deecc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7" name="文本框 7"/>
          <p:cNvSpPr/>
          <p:nvPr/>
        </p:nvSpPr>
        <p:spPr>
          <a:xfrm>
            <a:off x="731880" y="1128600"/>
            <a:ext cx="10048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一、读拼音，写词语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chuán fū        cǎi sè       mǔ qīn 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（      ）     （      ）      （      ）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pī zhe          dǎ rén       chōng dòng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（      ）      （      ）     （      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图片 2" descr=""/>
          <p:cNvPicPr/>
          <p:nvPr/>
        </p:nvPicPr>
        <p:blipFill>
          <a:blip r:embed="rId1"/>
          <a:stretch/>
        </p:blipFill>
        <p:spPr>
          <a:xfrm>
            <a:off x="6480" y="-3240"/>
            <a:ext cx="12196800" cy="686448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3" descr="PPT图标黄色"/>
          <p:cNvPicPr/>
          <p:nvPr/>
        </p:nvPicPr>
        <p:blipFill>
          <a:blip r:embed="rId2"/>
          <a:srcRect l="14592" t="0" r="0" b="0"/>
          <a:stretch/>
        </p:blipFill>
        <p:spPr>
          <a:xfrm>
            <a:off x="127080" y="133200"/>
            <a:ext cx="3230640" cy="714600"/>
          </a:xfrm>
          <a:prstGeom prst="rect">
            <a:avLst/>
          </a:prstGeom>
          <a:ln w="0">
            <a:noFill/>
          </a:ln>
        </p:spPr>
      </p:pic>
      <p:sp>
        <p:nvSpPr>
          <p:cNvPr id="730" name="文本框 1"/>
          <p:cNvSpPr/>
          <p:nvPr/>
        </p:nvSpPr>
        <p:spPr>
          <a:xfrm>
            <a:off x="6480" y="13644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随堂练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1" name="圆角矩形 6"/>
          <p:cNvSpPr/>
          <p:nvPr/>
        </p:nvSpPr>
        <p:spPr>
          <a:xfrm>
            <a:off x="264960" y="844560"/>
            <a:ext cx="10892160" cy="5367240"/>
          </a:xfrm>
          <a:prstGeom prst="roundRect">
            <a:avLst>
              <a:gd name="adj" fmla="val 16667"/>
            </a:avLst>
          </a:prstGeom>
          <a:solidFill>
            <a:srgbClr val="deecc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2" name="文本框 7"/>
          <p:cNvSpPr/>
          <p:nvPr/>
        </p:nvSpPr>
        <p:spPr>
          <a:xfrm>
            <a:off x="687240" y="847800"/>
            <a:ext cx="1004904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二、填上合适的词语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搭（  ）   （  ）橹 　（  ）鱼　　  抓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  )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披着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　  衔着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　 提着（  ）　背着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　 　　　　　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三、按课文内容填空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一下子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进水里……不见了。可是，没一会儿，它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起来了，红色的长嘴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着一条小鱼。它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在船头，一口把小鱼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了下去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图片 2" descr=""/>
          <p:cNvPicPr/>
          <p:nvPr/>
        </p:nvPicPr>
        <p:blipFill>
          <a:blip r:embed="rId1"/>
          <a:stretch/>
        </p:blipFill>
        <p:spPr>
          <a:xfrm>
            <a:off x="6480" y="-3240"/>
            <a:ext cx="12196800" cy="686448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3" descr="PPT图标黄色"/>
          <p:cNvPicPr/>
          <p:nvPr/>
        </p:nvPicPr>
        <p:blipFill>
          <a:blip r:embed="rId2"/>
          <a:srcRect l="14592" t="0" r="0" b="0"/>
          <a:stretch/>
        </p:blipFill>
        <p:spPr>
          <a:xfrm>
            <a:off x="127080" y="133200"/>
            <a:ext cx="3230640" cy="714600"/>
          </a:xfrm>
          <a:prstGeom prst="rect">
            <a:avLst/>
          </a:prstGeom>
          <a:ln w="0">
            <a:noFill/>
          </a:ln>
        </p:spPr>
      </p:pic>
      <p:sp>
        <p:nvSpPr>
          <p:cNvPr id="735" name="文本框 1"/>
          <p:cNvSpPr/>
          <p:nvPr/>
        </p:nvSpPr>
        <p:spPr>
          <a:xfrm>
            <a:off x="6480" y="13644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随堂练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6" name="圆角矩形 6"/>
          <p:cNvSpPr/>
          <p:nvPr/>
        </p:nvSpPr>
        <p:spPr>
          <a:xfrm>
            <a:off x="264960" y="844560"/>
            <a:ext cx="10892160" cy="5211720"/>
          </a:xfrm>
          <a:prstGeom prst="roundRect">
            <a:avLst>
              <a:gd name="adj" fmla="val 16667"/>
            </a:avLst>
          </a:prstGeom>
          <a:solidFill>
            <a:srgbClr val="deecc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7" name="文本框 7"/>
          <p:cNvSpPr/>
          <p:nvPr/>
        </p:nvSpPr>
        <p:spPr>
          <a:xfrm>
            <a:off x="687240" y="847800"/>
            <a:ext cx="100490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四、课内阅读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后来，雨停了。我看见一只彩色的小鸟站在船头。多么美丽的小鸟啊！它有一张红色的长嘴，羽毛是翠绿的，翅膀带有一些蓝色，比鹦鹉还漂亮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这段话共有（  ）句，写了（     ）的美丽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从文中哪些词语可以看出这是一只彩色的小鸟？请把相关的词语画出来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1"/>
          <p:cNvSpPr/>
          <p:nvPr/>
        </p:nvSpPr>
        <p:spPr>
          <a:xfrm>
            <a:off x="2446200" y="2359080"/>
            <a:ext cx="729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00cc99"/>
                </a:solidFill>
                <a:uFillTx/>
                <a:latin typeface="华文中宋"/>
                <a:ea typeface="华文中宋"/>
              </a:rPr>
              <a:t>15 </a:t>
            </a:r>
            <a:r>
              <a:rPr b="0" i="1" lang="zh-CN" sz="9600" spc="-1" strike="noStrike" u="sng">
                <a:solidFill>
                  <a:srgbClr val="00cc99"/>
                </a:solidFill>
                <a:uFillTx/>
                <a:latin typeface="华文中宋"/>
                <a:ea typeface="华文中宋"/>
              </a:rPr>
              <a:t>搭船的鸟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2" descr=""/>
          <p:cNvPicPr/>
          <p:nvPr/>
        </p:nvPicPr>
        <p:blipFill>
          <a:blip r:embed="rId1"/>
          <a:stretch/>
        </p:blipFill>
        <p:spPr>
          <a:xfrm>
            <a:off x="6480" y="-3240"/>
            <a:ext cx="12196800" cy="686448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3" descr="PPT图标黄色"/>
          <p:cNvPicPr/>
          <p:nvPr/>
        </p:nvPicPr>
        <p:blipFill>
          <a:blip r:embed="rId2"/>
          <a:srcRect l="14592" t="0" r="0" b="0"/>
          <a:stretch/>
        </p:blipFill>
        <p:spPr>
          <a:xfrm>
            <a:off x="127080" y="133200"/>
            <a:ext cx="3230640" cy="714600"/>
          </a:xfrm>
          <a:prstGeom prst="rect">
            <a:avLst/>
          </a:prstGeom>
          <a:ln w="0">
            <a:noFill/>
          </a:ln>
        </p:spPr>
      </p:pic>
      <p:sp>
        <p:nvSpPr>
          <p:cNvPr id="740" name="文本框 1"/>
          <p:cNvSpPr/>
          <p:nvPr/>
        </p:nvSpPr>
        <p:spPr>
          <a:xfrm>
            <a:off x="6480" y="13644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课后习题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1" name="圆角矩形 6"/>
          <p:cNvSpPr/>
          <p:nvPr/>
        </p:nvSpPr>
        <p:spPr>
          <a:xfrm>
            <a:off x="264960" y="844560"/>
            <a:ext cx="10892160" cy="5167440"/>
          </a:xfrm>
          <a:prstGeom prst="roundRect">
            <a:avLst>
              <a:gd name="adj" fmla="val 16667"/>
            </a:avLst>
          </a:prstGeom>
          <a:solidFill>
            <a:srgbClr val="deecc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文本框 7"/>
          <p:cNvSpPr/>
          <p:nvPr/>
        </p:nvSpPr>
        <p:spPr>
          <a:xfrm>
            <a:off x="687240" y="847800"/>
            <a:ext cx="10049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读课文，想想作者对那些事物做了细致观察，说说你是从哪里看出来的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文本框 2"/>
          <p:cNvSpPr/>
          <p:nvPr/>
        </p:nvSpPr>
        <p:spPr>
          <a:xfrm>
            <a:off x="687240" y="2219400"/>
            <a:ext cx="82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主要抓住翠鸟的外貌美，捕鱼动作迅速，敏捷的特点来观察和描写的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4" name="文本框 4"/>
          <p:cNvSpPr/>
          <p:nvPr/>
        </p:nvSpPr>
        <p:spPr>
          <a:xfrm>
            <a:off x="687240" y="3289320"/>
            <a:ext cx="82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有一张红色的长嘴，羽毛是翠绿的，翅膀带有一些蓝色，比鹦鹉还漂亮。（外貌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文本框 5"/>
          <p:cNvSpPr/>
          <p:nvPr/>
        </p:nvSpPr>
        <p:spPr>
          <a:xfrm>
            <a:off x="687240" y="4344840"/>
            <a:ext cx="9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一下子冲进水里……不见了。可是，没一会儿，它飞起来了，红色的长嘴衔着一条小鱼。它站在船头，一口把小鱼吞了下去。（捕鱼动作）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2" descr=""/>
          <p:cNvPicPr/>
          <p:nvPr/>
        </p:nvPicPr>
        <p:blipFill>
          <a:blip r:embed="rId1"/>
          <a:stretch/>
        </p:blipFill>
        <p:spPr>
          <a:xfrm>
            <a:off x="6480" y="-3240"/>
            <a:ext cx="12196800" cy="68644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3" descr="PPT图标黄色"/>
          <p:cNvPicPr/>
          <p:nvPr/>
        </p:nvPicPr>
        <p:blipFill>
          <a:blip r:embed="rId2"/>
          <a:srcRect l="14592" t="0" r="0" b="0"/>
          <a:stretch/>
        </p:blipFill>
        <p:spPr>
          <a:xfrm>
            <a:off x="127080" y="133200"/>
            <a:ext cx="3230640" cy="7146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1"/>
          <p:cNvSpPr/>
          <p:nvPr/>
        </p:nvSpPr>
        <p:spPr>
          <a:xfrm>
            <a:off x="6480" y="13644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课后习题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9" name="圆角矩形 6"/>
          <p:cNvSpPr/>
          <p:nvPr/>
        </p:nvSpPr>
        <p:spPr>
          <a:xfrm>
            <a:off x="264960" y="844560"/>
            <a:ext cx="10892160" cy="3843360"/>
          </a:xfrm>
          <a:prstGeom prst="roundRect">
            <a:avLst>
              <a:gd name="adj" fmla="val 16667"/>
            </a:avLst>
          </a:prstGeom>
          <a:solidFill>
            <a:srgbClr val="deecc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文本框 7"/>
          <p:cNvSpPr/>
          <p:nvPr/>
        </p:nvSpPr>
        <p:spPr>
          <a:xfrm>
            <a:off x="687240" y="847800"/>
            <a:ext cx="10049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下面一段话，注意加点的词语，想象翠鸟捕鱼的场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文本框 5"/>
          <p:cNvSpPr/>
          <p:nvPr/>
        </p:nvSpPr>
        <p:spPr>
          <a:xfrm>
            <a:off x="584280" y="1747800"/>
            <a:ext cx="9599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一下子冲进水里……不见了。可是，没一会儿，它飞起来了，红色的长嘴衔着一条小鱼。它站在船头，一口把小鱼吞了下去。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（捕鱼动作）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椭圆 8"/>
          <p:cNvSpPr/>
          <p:nvPr/>
        </p:nvSpPr>
        <p:spPr>
          <a:xfrm>
            <a:off x="2833560" y="2386080"/>
            <a:ext cx="856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3" name="椭圆 9"/>
          <p:cNvSpPr/>
          <p:nvPr/>
        </p:nvSpPr>
        <p:spPr>
          <a:xfrm>
            <a:off x="9567720" y="2309760"/>
            <a:ext cx="828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4" name="椭圆 10"/>
          <p:cNvSpPr/>
          <p:nvPr/>
        </p:nvSpPr>
        <p:spPr>
          <a:xfrm>
            <a:off x="4027320" y="2946240"/>
            <a:ext cx="828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5" name="椭圆 11"/>
          <p:cNvSpPr/>
          <p:nvPr/>
        </p:nvSpPr>
        <p:spPr>
          <a:xfrm>
            <a:off x="6883560" y="2946240"/>
            <a:ext cx="824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6" name="文本框 12"/>
          <p:cNvSpPr/>
          <p:nvPr/>
        </p:nvSpPr>
        <p:spPr>
          <a:xfrm>
            <a:off x="1046160" y="4011480"/>
            <a:ext cx="93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提示：一边做动作，一边朗读，辅助想象捕鱼场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2" descr=""/>
          <p:cNvPicPr/>
          <p:nvPr/>
        </p:nvPicPr>
        <p:blipFill>
          <a:blip r:embed="rId1"/>
          <a:stretch/>
        </p:blipFill>
        <p:spPr>
          <a:xfrm>
            <a:off x="6480" y="-3240"/>
            <a:ext cx="12196800" cy="686448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3" descr="PPT图标黄色"/>
          <p:cNvPicPr/>
          <p:nvPr/>
        </p:nvPicPr>
        <p:blipFill>
          <a:blip r:embed="rId2"/>
          <a:srcRect l="14592" t="0" r="0" b="0"/>
          <a:stretch/>
        </p:blipFill>
        <p:spPr>
          <a:xfrm>
            <a:off x="127080" y="133200"/>
            <a:ext cx="3230640" cy="714600"/>
          </a:xfrm>
          <a:prstGeom prst="rect">
            <a:avLst/>
          </a:prstGeom>
          <a:ln w="0">
            <a:noFill/>
          </a:ln>
        </p:spPr>
      </p:pic>
      <p:sp>
        <p:nvSpPr>
          <p:cNvPr id="759" name="文本框 1"/>
          <p:cNvSpPr/>
          <p:nvPr/>
        </p:nvSpPr>
        <p:spPr>
          <a:xfrm>
            <a:off x="6480" y="13644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积累拓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0" name="圆角矩形 6"/>
          <p:cNvSpPr/>
          <p:nvPr/>
        </p:nvSpPr>
        <p:spPr>
          <a:xfrm>
            <a:off x="264960" y="844560"/>
            <a:ext cx="10892160" cy="4689360"/>
          </a:xfrm>
          <a:prstGeom prst="roundRect">
            <a:avLst>
              <a:gd name="adj" fmla="val 16667"/>
            </a:avLst>
          </a:prstGeom>
          <a:solidFill>
            <a:srgbClr val="deecc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1" name="文本框 7"/>
          <p:cNvSpPr/>
          <p:nvPr/>
        </p:nvSpPr>
        <p:spPr>
          <a:xfrm>
            <a:off x="546120" y="847800"/>
            <a:ext cx="16747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黑体_GBK"/>
                <a:ea typeface="方正黑体_GBK"/>
              </a:rPr>
              <a:t>好段落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2" name="文本框 4"/>
          <p:cNvSpPr/>
          <p:nvPr/>
        </p:nvSpPr>
        <p:spPr>
          <a:xfrm>
            <a:off x="458640" y="1579680"/>
            <a:ext cx="10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方正黑体_GBK"/>
                <a:ea typeface="方正黑体_GBK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金鱼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浑身是淡红色的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当我喂食时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会第一个冲在前面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非常 机灵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就叫它“机灵”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;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还有一条 小金鱼它的背上红的似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腹部白的 似霜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鳍上还黑白相间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各种颜色争 奇斗艳的特别热闹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所以我叫它“热 闹”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;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最后一条小金鱼最特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的 腮上有一个黑豆大的黑点儿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所以我 叫它“黑点儿” 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2" descr=""/>
          <p:cNvPicPr/>
          <p:nvPr/>
        </p:nvPicPr>
        <p:blipFill>
          <a:blip r:embed="rId1"/>
          <a:stretch/>
        </p:blipFill>
        <p:spPr>
          <a:xfrm>
            <a:off x="6480" y="-3240"/>
            <a:ext cx="12196800" cy="686448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3" descr="PPT图标黄色"/>
          <p:cNvPicPr/>
          <p:nvPr/>
        </p:nvPicPr>
        <p:blipFill>
          <a:blip r:embed="rId2"/>
          <a:srcRect l="14592" t="0" r="0" b="0"/>
          <a:stretch/>
        </p:blipFill>
        <p:spPr>
          <a:xfrm>
            <a:off x="127080" y="133200"/>
            <a:ext cx="3230640" cy="714600"/>
          </a:xfrm>
          <a:prstGeom prst="rect">
            <a:avLst/>
          </a:prstGeom>
          <a:ln w="0">
            <a:noFill/>
          </a:ln>
        </p:spPr>
      </p:pic>
      <p:sp>
        <p:nvSpPr>
          <p:cNvPr id="765" name="文本框 1"/>
          <p:cNvSpPr/>
          <p:nvPr/>
        </p:nvSpPr>
        <p:spPr>
          <a:xfrm>
            <a:off x="6480" y="13644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积累拓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6" name="圆角矩形 6"/>
          <p:cNvSpPr/>
          <p:nvPr/>
        </p:nvSpPr>
        <p:spPr>
          <a:xfrm>
            <a:off x="264960" y="844560"/>
            <a:ext cx="10892160" cy="4719600"/>
          </a:xfrm>
          <a:prstGeom prst="roundRect">
            <a:avLst>
              <a:gd name="adj" fmla="val 16667"/>
            </a:avLst>
          </a:prstGeom>
          <a:solidFill>
            <a:srgbClr val="deecc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7" name="文本框 7"/>
          <p:cNvSpPr/>
          <p:nvPr/>
        </p:nvSpPr>
        <p:spPr>
          <a:xfrm>
            <a:off x="546120" y="847800"/>
            <a:ext cx="16747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黑体_GBK"/>
                <a:ea typeface="方正黑体_GBK"/>
              </a:rPr>
              <a:t>好段落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8" name="文本框 4"/>
          <p:cNvSpPr/>
          <p:nvPr/>
        </p:nvSpPr>
        <p:spPr>
          <a:xfrm>
            <a:off x="458640" y="1579680"/>
            <a:ext cx="10800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方正黑体_GBK"/>
                <a:ea typeface="方正黑体_GBK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家有一只小狗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名叫泡泡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的毛是比卷毛羊还卷的毛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毛的颜色是棕色的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而且它才几个月大呢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!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它老是蹦到我身上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像是想让我抱它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眼睛像棕色的宝石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漂亮极了。它吃东西时吃的很快很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一眨眼的功夫它就吃完了。它有两件衣服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一件是羽绒服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一件是红色的毛衣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穿起来神气极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图片 2" descr=""/>
          <p:cNvPicPr/>
          <p:nvPr/>
        </p:nvPicPr>
        <p:blipFill>
          <a:blip r:embed="rId1"/>
          <a:stretch/>
        </p:blipFill>
        <p:spPr>
          <a:xfrm>
            <a:off x="6480" y="-3240"/>
            <a:ext cx="12196800" cy="686448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3" descr="PPT图标黄色"/>
          <p:cNvPicPr/>
          <p:nvPr/>
        </p:nvPicPr>
        <p:blipFill>
          <a:blip r:embed="rId2"/>
          <a:srcRect l="14592" t="0" r="0" b="0"/>
          <a:stretch/>
        </p:blipFill>
        <p:spPr>
          <a:xfrm>
            <a:off x="127080" y="133200"/>
            <a:ext cx="3230640" cy="714600"/>
          </a:xfrm>
          <a:prstGeom prst="rect">
            <a:avLst/>
          </a:prstGeom>
          <a:ln w="0">
            <a:noFill/>
          </a:ln>
        </p:spPr>
      </p:pic>
      <p:sp>
        <p:nvSpPr>
          <p:cNvPr id="771" name="文本框 1"/>
          <p:cNvSpPr/>
          <p:nvPr/>
        </p:nvSpPr>
        <p:spPr>
          <a:xfrm>
            <a:off x="6480" y="13644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积累拓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2" name="圆角矩形 6"/>
          <p:cNvSpPr/>
          <p:nvPr/>
        </p:nvSpPr>
        <p:spPr>
          <a:xfrm>
            <a:off x="264960" y="844560"/>
            <a:ext cx="10892160" cy="3827520"/>
          </a:xfrm>
          <a:prstGeom prst="roundRect">
            <a:avLst>
              <a:gd name="adj" fmla="val 16667"/>
            </a:avLst>
          </a:prstGeom>
          <a:solidFill>
            <a:srgbClr val="deecc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3" name="文本框 7"/>
          <p:cNvSpPr/>
          <p:nvPr/>
        </p:nvSpPr>
        <p:spPr>
          <a:xfrm>
            <a:off x="546120" y="847800"/>
            <a:ext cx="16747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黑体_GBK"/>
                <a:ea typeface="方正黑体_GBK"/>
              </a:rPr>
              <a:t>好段落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4" name="文本框 4"/>
          <p:cNvSpPr/>
          <p:nvPr/>
        </p:nvSpPr>
        <p:spPr>
          <a:xfrm>
            <a:off x="419040" y="1397160"/>
            <a:ext cx="10800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方正黑体_GBK"/>
                <a:ea typeface="方正黑体_GBK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花猫独自守在老鼠洞口，側着耳朵，一动不动，像一块石头，可是那双眼睛却闪闪发光。突然，“吱”的一声，老鼠出动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!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只见它以迅雷不及掩耳之势猛扑了过去，紧接着，它迅速地向老鼠扑去，可惜被老鼠逃掉了，眼看老鼠钻进了洞里，小花猫垂头丧气的离开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图片 2" descr=""/>
          <p:cNvPicPr/>
          <p:nvPr/>
        </p:nvPicPr>
        <p:blipFill>
          <a:blip r:embed="rId1"/>
          <a:stretch/>
        </p:blipFill>
        <p:spPr>
          <a:xfrm>
            <a:off x="6480" y="-3240"/>
            <a:ext cx="12196800" cy="686448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" descr="PPT图标黄色"/>
          <p:cNvPicPr/>
          <p:nvPr/>
        </p:nvPicPr>
        <p:blipFill>
          <a:blip r:embed="rId2"/>
          <a:srcRect l="14592" t="0" r="0" b="0"/>
          <a:stretch/>
        </p:blipFill>
        <p:spPr>
          <a:xfrm>
            <a:off x="127080" y="133200"/>
            <a:ext cx="3230640" cy="714600"/>
          </a:xfrm>
          <a:prstGeom prst="rect">
            <a:avLst/>
          </a:prstGeom>
          <a:ln w="0">
            <a:noFill/>
          </a:ln>
        </p:spPr>
      </p:pic>
      <p:sp>
        <p:nvSpPr>
          <p:cNvPr id="777" name="文本框 1"/>
          <p:cNvSpPr/>
          <p:nvPr/>
        </p:nvSpPr>
        <p:spPr>
          <a:xfrm>
            <a:off x="6480" y="13644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积累拓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8" name="圆角矩形 6"/>
          <p:cNvSpPr/>
          <p:nvPr/>
        </p:nvSpPr>
        <p:spPr>
          <a:xfrm>
            <a:off x="255600" y="844560"/>
            <a:ext cx="11084040" cy="5626080"/>
          </a:xfrm>
          <a:prstGeom prst="roundRect">
            <a:avLst>
              <a:gd name="adj" fmla="val 16667"/>
            </a:avLst>
          </a:prstGeom>
          <a:solidFill>
            <a:srgbClr val="deecc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9" name="文本框 7"/>
          <p:cNvSpPr/>
          <p:nvPr/>
        </p:nvSpPr>
        <p:spPr>
          <a:xfrm>
            <a:off x="546120" y="704880"/>
            <a:ext cx="1714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黑体_GBK"/>
                <a:ea typeface="方正黑体_GBK"/>
              </a:rPr>
              <a:t>好段落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0" name="文本框 4"/>
          <p:cNvSpPr/>
          <p:nvPr/>
        </p:nvSpPr>
        <p:spPr>
          <a:xfrm>
            <a:off x="438120" y="1347840"/>
            <a:ext cx="11079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方正黑体_GBK"/>
                <a:ea typeface="方正黑体_GBK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有一次，小公鸡在院子里的大树下扒食吃，我抓了一把米撒在地上，小公鸡正吃得欢，突然，一只大公鸡过来和小公鸡抢米吃。这下可把小公鸡惹火了，扑过去和大公鸡打了起来。大公鸡猛地扑过来了，小公鸡沉着应战，身子一缩，躲过了大公鸡的一招。然后，它立刻转到大公鸡的后边，冷不防地向上一蹿，蹦到大公鸡的背上对着它的冠子猛啄，啄得大公鸡的冠子直流血。大公鸡疼得逃跑了。小公鸡胜利了，它昂头挺胸。瞧，一副得意神气的样子，真讨人喜欢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2" descr=""/>
          <p:cNvPicPr/>
          <p:nvPr/>
        </p:nvPicPr>
        <p:blipFill>
          <a:blip r:embed="rId1"/>
          <a:stretch/>
        </p:blipFill>
        <p:spPr>
          <a:xfrm>
            <a:off x="615960" y="749160"/>
            <a:ext cx="11675880" cy="5816880"/>
          </a:xfrm>
          <a:prstGeom prst="rect">
            <a:avLst/>
          </a:prstGeom>
          <a:ln w="0">
            <a:noFill/>
          </a:ln>
        </p:spPr>
      </p:pic>
      <p:grpSp>
        <p:nvGrpSpPr>
          <p:cNvPr id="513" name="组合 4"/>
          <p:cNvGrpSpPr/>
          <p:nvPr/>
        </p:nvGrpSpPr>
        <p:grpSpPr>
          <a:xfrm>
            <a:off x="138240" y="144360"/>
            <a:ext cx="3228840" cy="714600"/>
            <a:chOff x="138240" y="144360"/>
            <a:chExt cx="3228840" cy="714600"/>
          </a:xfrm>
        </p:grpSpPr>
        <p:pic>
          <p:nvPicPr>
            <p:cNvPr id="514" name="图片 3" descr="PPT图标黄色"/>
            <p:cNvPicPr/>
            <p:nvPr/>
          </p:nvPicPr>
          <p:blipFill>
            <a:blip r:embed="rId2"/>
            <a:srcRect l="14592" t="0" r="0" b="0"/>
            <a:stretch/>
          </p:blipFill>
          <p:spPr>
            <a:xfrm>
              <a:off x="138240" y="144360"/>
              <a:ext cx="32288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文本框 1"/>
            <p:cNvSpPr/>
            <p:nvPr/>
          </p:nvSpPr>
          <p:spPr>
            <a:xfrm>
              <a:off x="550440" y="15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学习目标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6" name="Text Box 3"/>
          <p:cNvSpPr/>
          <p:nvPr/>
        </p:nvSpPr>
        <p:spPr>
          <a:xfrm>
            <a:off x="1465200" y="1382760"/>
            <a:ext cx="99759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会认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鹦、鹉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等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5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个生字，会写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搭、嘴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等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3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个生字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14440" indent="-5144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正确、流利、有感情地朗读课文，体会翠鸟的外貌美，敏捷的捕鱼动作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14440" indent="-5144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抓重点词语理解课文内容，懂得人与动物应该和谐相处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组合 4"/>
          <p:cNvGrpSpPr/>
          <p:nvPr/>
        </p:nvGrpSpPr>
        <p:grpSpPr>
          <a:xfrm>
            <a:off x="138240" y="144360"/>
            <a:ext cx="3228840" cy="714600"/>
            <a:chOff x="138240" y="144360"/>
            <a:chExt cx="3228840" cy="714600"/>
          </a:xfrm>
        </p:grpSpPr>
        <p:pic>
          <p:nvPicPr>
            <p:cNvPr id="518" name="图片 3" descr="PPT图标黄色"/>
            <p:cNvPicPr/>
            <p:nvPr/>
          </p:nvPicPr>
          <p:blipFill>
            <a:blip r:embed="rId1"/>
            <a:srcRect l="14592" t="0" r="0" b="0"/>
            <a:stretch/>
          </p:blipFill>
          <p:spPr>
            <a:xfrm>
              <a:off x="138240" y="144360"/>
              <a:ext cx="32288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文本框 1"/>
            <p:cNvSpPr/>
            <p:nvPr/>
          </p:nvSpPr>
          <p:spPr>
            <a:xfrm>
              <a:off x="550440" y="15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知识锦囊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20" name="图片 1" descr=""/>
          <p:cNvPicPr/>
          <p:nvPr/>
        </p:nvPicPr>
        <p:blipFill>
          <a:blip r:embed="rId2"/>
          <a:stretch/>
        </p:blipFill>
        <p:spPr>
          <a:xfrm>
            <a:off x="531720" y="1668600"/>
            <a:ext cx="3435480" cy="288756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2"/>
          <p:cNvSpPr/>
          <p:nvPr/>
        </p:nvSpPr>
        <p:spPr>
          <a:xfrm>
            <a:off x="4205160" y="628560"/>
            <a:ext cx="779148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翠鸟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属中型水鸟。头部蓝黑色，密杂以翠蓝横斑，背部辉翠蓝色，腹部栗棕色；头顶有浅色横斑；嘴和脚均赤红色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从远处看很象啄木鸟。因背和面部的羽毛翠蓝发亮，因而通称翠鸟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食物以鱼类为主，兼吃甲壳类和多种水生昆虫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组合 4"/>
          <p:cNvGrpSpPr/>
          <p:nvPr/>
        </p:nvGrpSpPr>
        <p:grpSpPr>
          <a:xfrm>
            <a:off x="138240" y="144360"/>
            <a:ext cx="3228840" cy="714600"/>
            <a:chOff x="138240" y="144360"/>
            <a:chExt cx="3228840" cy="714600"/>
          </a:xfrm>
        </p:grpSpPr>
        <p:pic>
          <p:nvPicPr>
            <p:cNvPr id="523" name="图片 3" descr="PPT图标黄色"/>
            <p:cNvPicPr/>
            <p:nvPr/>
          </p:nvPicPr>
          <p:blipFill>
            <a:blip r:embed="rId1"/>
            <a:srcRect l="14592" t="0" r="0" b="0"/>
            <a:stretch/>
          </p:blipFill>
          <p:spPr>
            <a:xfrm>
              <a:off x="138240" y="144360"/>
              <a:ext cx="32288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文本框 1"/>
            <p:cNvSpPr/>
            <p:nvPr/>
          </p:nvSpPr>
          <p:spPr>
            <a:xfrm>
              <a:off x="550440" y="15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初读课文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25" name="图片 5" descr=""/>
          <p:cNvPicPr/>
          <p:nvPr/>
        </p:nvPicPr>
        <p:blipFill>
          <a:blip r:embed="rId2"/>
          <a:stretch/>
        </p:blipFill>
        <p:spPr>
          <a:xfrm>
            <a:off x="584280" y="1031760"/>
            <a:ext cx="11675880" cy="5816880"/>
          </a:xfrm>
          <a:prstGeom prst="rect">
            <a:avLst/>
          </a:prstGeom>
          <a:ln w="0">
            <a:noFill/>
          </a:ln>
        </p:spPr>
      </p:pic>
      <p:sp>
        <p:nvSpPr>
          <p:cNvPr id="526" name="文本框 32"/>
          <p:cNvSpPr/>
          <p:nvPr/>
        </p:nvSpPr>
        <p:spPr>
          <a:xfrm>
            <a:off x="1357200" y="1519200"/>
            <a:ext cx="99219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.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自由读，要求读准字音，读通句子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文本框 6"/>
          <p:cNvSpPr/>
          <p:nvPr/>
        </p:nvSpPr>
        <p:spPr>
          <a:xfrm>
            <a:off x="1428840" y="2981160"/>
            <a:ext cx="10742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和同桌合作读，注意读出感情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文本框 7"/>
          <p:cNvSpPr/>
          <p:nvPr/>
        </p:nvSpPr>
        <p:spPr>
          <a:xfrm>
            <a:off x="1517760" y="4479840"/>
            <a:ext cx="107424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3.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边读边勾画，标注你喜欢的词、句和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不懂的地方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组合 4"/>
          <p:cNvGrpSpPr/>
          <p:nvPr/>
        </p:nvGrpSpPr>
        <p:grpSpPr>
          <a:xfrm>
            <a:off x="138240" y="144360"/>
            <a:ext cx="3228840" cy="714600"/>
            <a:chOff x="138240" y="144360"/>
            <a:chExt cx="3228840" cy="714600"/>
          </a:xfrm>
        </p:grpSpPr>
        <p:pic>
          <p:nvPicPr>
            <p:cNvPr id="530" name="图片 3" descr="PPT图标黄色"/>
            <p:cNvPicPr/>
            <p:nvPr/>
          </p:nvPicPr>
          <p:blipFill>
            <a:blip r:embed="rId1"/>
            <a:srcRect l="14592" t="0" r="0" b="0"/>
            <a:stretch/>
          </p:blipFill>
          <p:spPr>
            <a:xfrm>
              <a:off x="138240" y="144360"/>
              <a:ext cx="32288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文本框 1"/>
            <p:cNvSpPr/>
            <p:nvPr/>
          </p:nvSpPr>
          <p:spPr>
            <a:xfrm>
              <a:off x="550440" y="15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字词学习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32" name="文本框 2"/>
          <p:cNvSpPr/>
          <p:nvPr/>
        </p:nvSpPr>
        <p:spPr>
          <a:xfrm>
            <a:off x="1206360" y="292104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父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亲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文本框 8"/>
          <p:cNvSpPr/>
          <p:nvPr/>
        </p:nvSpPr>
        <p:spPr>
          <a:xfrm>
            <a:off x="3618000" y="15177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船夫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文本框 10"/>
          <p:cNvSpPr/>
          <p:nvPr/>
        </p:nvSpPr>
        <p:spPr>
          <a:xfrm>
            <a:off x="8558280" y="15177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沙</a:t>
            </a:r>
            <a:r>
              <a:rPr b="0" i="1" lang="zh-CN" sz="6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文本框 11"/>
          <p:cNvSpPr/>
          <p:nvPr/>
        </p:nvSpPr>
        <p:spPr>
          <a:xfrm>
            <a:off x="6126120" y="15177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船篷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文本框 12"/>
          <p:cNvSpPr/>
          <p:nvPr/>
        </p:nvSpPr>
        <p:spPr>
          <a:xfrm>
            <a:off x="6126120" y="292104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翠鸟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文本框 13"/>
          <p:cNvSpPr/>
          <p:nvPr/>
        </p:nvSpPr>
        <p:spPr>
          <a:xfrm>
            <a:off x="3618000" y="292104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长嘴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文本框 14"/>
          <p:cNvSpPr/>
          <p:nvPr/>
        </p:nvSpPr>
        <p:spPr>
          <a:xfrm>
            <a:off x="8628120" y="2921040"/>
            <a:ext cx="173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鹦鹉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文本框 16"/>
          <p:cNvSpPr/>
          <p:nvPr/>
        </p:nvSpPr>
        <p:spPr>
          <a:xfrm>
            <a:off x="3367080" y="4606920"/>
            <a:ext cx="275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吞下去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文本框 17"/>
          <p:cNvSpPr/>
          <p:nvPr/>
        </p:nvSpPr>
        <p:spPr>
          <a:xfrm>
            <a:off x="6126120" y="4606920"/>
            <a:ext cx="296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悄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悄地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文本框 18"/>
          <p:cNvSpPr/>
          <p:nvPr/>
        </p:nvSpPr>
        <p:spPr>
          <a:xfrm>
            <a:off x="1206360" y="15177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船舱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文本框 19"/>
          <p:cNvSpPr/>
          <p:nvPr/>
        </p:nvSpPr>
        <p:spPr>
          <a:xfrm>
            <a:off x="1206360" y="460692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搭船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文本框 20"/>
          <p:cNvSpPr/>
          <p:nvPr/>
        </p:nvSpPr>
        <p:spPr>
          <a:xfrm>
            <a:off x="1890720" y="11350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āng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文本框 22"/>
          <p:cNvSpPr/>
          <p:nvPr/>
        </p:nvSpPr>
        <p:spPr>
          <a:xfrm>
            <a:off x="4510800" y="113508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fū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文本框 23"/>
          <p:cNvSpPr/>
          <p:nvPr/>
        </p:nvSpPr>
        <p:spPr>
          <a:xfrm>
            <a:off x="6776280" y="113508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pé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文本框 24"/>
          <p:cNvSpPr/>
          <p:nvPr/>
        </p:nvSpPr>
        <p:spPr>
          <a:xfrm>
            <a:off x="8662680" y="1135080"/>
            <a:ext cx="15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hā l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文本框 25"/>
          <p:cNvSpPr/>
          <p:nvPr/>
        </p:nvSpPr>
        <p:spPr>
          <a:xfrm>
            <a:off x="1335960" y="253368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fù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文本框 26"/>
          <p:cNvSpPr/>
          <p:nvPr/>
        </p:nvSpPr>
        <p:spPr>
          <a:xfrm>
            <a:off x="4541040" y="2533680"/>
            <a:ext cx="83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uǐ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6183720" y="2533680"/>
            <a:ext cx="8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uì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8298720" y="2533680"/>
            <a:ext cx="21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yīng wǔ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2960" y="4238640"/>
            <a:ext cx="7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d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3373200" y="4238640"/>
            <a:ext cx="9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tūn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文本框 31"/>
          <p:cNvSpPr/>
          <p:nvPr/>
        </p:nvSpPr>
        <p:spPr>
          <a:xfrm>
            <a:off x="6139800" y="4176720"/>
            <a:ext cx="11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iāo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54" descr=""/>
          <p:cNvPicPr/>
          <p:nvPr/>
        </p:nvPicPr>
        <p:blipFill>
          <a:blip r:embed="rId1"/>
          <a:srcRect l="-95" t="-3458" r="74704" b="0"/>
          <a:stretch/>
        </p:blipFill>
        <p:spPr>
          <a:xfrm>
            <a:off x="3027240" y="4154400"/>
            <a:ext cx="1117800" cy="115092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23" descr=""/>
          <p:cNvPicPr/>
          <p:nvPr/>
        </p:nvPicPr>
        <p:blipFill>
          <a:blip r:embed="rId2"/>
          <a:srcRect l="-95" t="-3458" r="74704" b="0"/>
          <a:stretch/>
        </p:blipFill>
        <p:spPr>
          <a:xfrm>
            <a:off x="8211960" y="1020600"/>
            <a:ext cx="1117800" cy="1151280"/>
          </a:xfrm>
          <a:prstGeom prst="rect">
            <a:avLst/>
          </a:prstGeom>
          <a:ln w="0">
            <a:noFill/>
          </a:ln>
        </p:spPr>
      </p:pic>
      <p:grpSp>
        <p:nvGrpSpPr>
          <p:cNvPr id="556" name="组合 8"/>
          <p:cNvGrpSpPr/>
          <p:nvPr/>
        </p:nvGrpSpPr>
        <p:grpSpPr>
          <a:xfrm>
            <a:off x="800280" y="1003320"/>
            <a:ext cx="7411680" cy="1155600"/>
            <a:chOff x="800280" y="1003320"/>
            <a:chExt cx="7411680" cy="1155600"/>
          </a:xfrm>
        </p:grpSpPr>
        <p:grpSp>
          <p:nvGrpSpPr>
            <p:cNvPr id="557" name="组合 7"/>
            <p:cNvGrpSpPr/>
            <p:nvPr/>
          </p:nvGrpSpPr>
          <p:grpSpPr>
            <a:xfrm>
              <a:off x="5977080" y="1003320"/>
              <a:ext cx="2234880" cy="1155600"/>
              <a:chOff x="5977080" y="1003320"/>
              <a:chExt cx="2234880" cy="1155600"/>
            </a:xfrm>
          </p:grpSpPr>
          <p:pic>
            <p:nvPicPr>
              <p:cNvPr id="558" name="图片 46" descr=""/>
              <p:cNvPicPr/>
              <p:nvPr/>
            </p:nvPicPr>
            <p:blipFill>
              <a:blip r:embed="rId3"/>
              <a:srcRect l="-95" t="-3458" r="74704" b="0"/>
              <a:stretch/>
            </p:blipFill>
            <p:spPr>
              <a:xfrm>
                <a:off x="5977080" y="1003320"/>
                <a:ext cx="1117440" cy="115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图片 1" descr=""/>
              <p:cNvPicPr/>
              <p:nvPr/>
            </p:nvPicPr>
            <p:blipFill>
              <a:blip r:embed="rId4"/>
              <a:srcRect l="-95" t="-3458" r="74704" b="0"/>
              <a:stretch/>
            </p:blipFill>
            <p:spPr>
              <a:xfrm>
                <a:off x="7094520" y="1007640"/>
                <a:ext cx="1117440" cy="115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组合 6"/>
            <p:cNvGrpSpPr/>
            <p:nvPr/>
          </p:nvGrpSpPr>
          <p:grpSpPr>
            <a:xfrm>
              <a:off x="800280" y="1027440"/>
              <a:ext cx="7365600" cy="1122840"/>
              <a:chOff x="800280" y="1027440"/>
              <a:chExt cx="7365600" cy="1122840"/>
            </a:xfrm>
          </p:grpSpPr>
          <p:grpSp>
            <p:nvGrpSpPr>
              <p:cNvPr id="561" name="组合 44"/>
              <p:cNvGrpSpPr/>
              <p:nvPr/>
            </p:nvGrpSpPr>
            <p:grpSpPr>
              <a:xfrm>
                <a:off x="800280" y="1027440"/>
                <a:ext cx="5222520" cy="1115280"/>
                <a:chOff x="800280" y="1027440"/>
                <a:chExt cx="5222520" cy="1115280"/>
              </a:xfrm>
            </p:grpSpPr>
            <p:pic>
              <p:nvPicPr>
                <p:cNvPr id="562" name="图片 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00280" y="1027440"/>
                  <a:ext cx="5222520" cy="1113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3" name="文本框 5"/>
                <p:cNvSpPr/>
                <p:nvPr/>
              </p:nvSpPr>
              <p:spPr>
                <a:xfrm>
                  <a:off x="800280" y="1033560"/>
                  <a:ext cx="92376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6600" spc="-1" strike="noStrike" u="sng">
                      <a:solidFill>
                        <a:srgbClr val="565476"/>
                      </a:solidFill>
                      <a:uFillTx/>
                      <a:latin typeface="楷体"/>
                      <a:ea typeface="楷体"/>
                    </a:rPr>
                    <a:t>搭</a:t>
                  </a:r>
                  <a:endParaRPr b="0" i="1" lang="en-US" sz="6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4" name="文本框 3"/>
                <p:cNvSpPr/>
                <p:nvPr/>
              </p:nvSpPr>
              <p:spPr>
                <a:xfrm>
                  <a:off x="1873080" y="1027440"/>
                  <a:ext cx="92232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6600" spc="-1" strike="noStrike" u="sng">
                      <a:solidFill>
                        <a:srgbClr val="565476"/>
                      </a:solidFill>
                      <a:uFillTx/>
                      <a:latin typeface="楷体"/>
                      <a:ea typeface="楷体"/>
                    </a:rPr>
                    <a:t>沙</a:t>
                  </a:r>
                  <a:endParaRPr b="0" i="1" lang="en-US" sz="6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5" name="文本框 4"/>
                <p:cNvSpPr/>
                <p:nvPr/>
              </p:nvSpPr>
              <p:spPr>
                <a:xfrm>
                  <a:off x="2933640" y="1036800"/>
                  <a:ext cx="92376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6600" spc="-1" strike="noStrike" u="sng">
                      <a:solidFill>
                        <a:srgbClr val="565476"/>
                      </a:solidFill>
                      <a:uFillTx/>
                      <a:latin typeface="楷体"/>
                      <a:ea typeface="楷体"/>
                    </a:rPr>
                    <a:t>啦</a:t>
                  </a:r>
                  <a:endParaRPr b="0" i="1" lang="en-US" sz="6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6" name="文本框 12"/>
                <p:cNvSpPr/>
                <p:nvPr/>
              </p:nvSpPr>
              <p:spPr>
                <a:xfrm>
                  <a:off x="3949560" y="1043280"/>
                  <a:ext cx="92376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6600" spc="-1" strike="noStrike" u="sng">
                      <a:solidFill>
                        <a:srgbClr val="565476"/>
                      </a:solidFill>
                      <a:uFillTx/>
                      <a:latin typeface="楷体"/>
                      <a:ea typeface="楷体"/>
                    </a:rPr>
                    <a:t>响</a:t>
                  </a:r>
                  <a:endParaRPr b="0" i="1" lang="en-US" sz="6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7" name="文本框 14"/>
                <p:cNvSpPr/>
                <p:nvPr/>
              </p:nvSpPr>
              <p:spPr>
                <a:xfrm>
                  <a:off x="4976640" y="1036800"/>
                  <a:ext cx="92376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6600" spc="-1" strike="noStrike" u="sng">
                      <a:solidFill>
                        <a:srgbClr val="565476"/>
                      </a:solidFill>
                      <a:uFillTx/>
                      <a:latin typeface="楷体"/>
                      <a:ea typeface="楷体"/>
                    </a:rPr>
                    <a:t>羽</a:t>
                  </a:r>
                  <a:endParaRPr b="0" i="1" lang="en-US" sz="6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68" name="文本框 27"/>
              <p:cNvSpPr/>
              <p:nvPr/>
            </p:nvSpPr>
            <p:spPr>
              <a:xfrm>
                <a:off x="6023160" y="1030320"/>
                <a:ext cx="10252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6600" spc="-1" strike="noStrike" u="sng">
                    <a:solidFill>
                      <a:srgbClr val="565476"/>
                    </a:solidFill>
                    <a:uFillTx/>
                    <a:latin typeface="楷体"/>
                    <a:ea typeface="楷体"/>
                  </a:rPr>
                  <a:t>嘴</a:t>
                </a:r>
                <a:endParaRPr b="0" i="1" lang="en-US" sz="6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9" name="文本框 30"/>
              <p:cNvSpPr/>
              <p:nvPr/>
            </p:nvSpPr>
            <p:spPr>
              <a:xfrm>
                <a:off x="7140600" y="1050840"/>
                <a:ext cx="10252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6600" spc="-1" strike="noStrike" u="sng">
                    <a:solidFill>
                      <a:srgbClr val="565476"/>
                    </a:solidFill>
                    <a:uFillTx/>
                    <a:latin typeface="楷体"/>
                    <a:ea typeface="楷体"/>
                  </a:rPr>
                  <a:t>悄</a:t>
                </a:r>
                <a:endParaRPr b="0" i="1" lang="en-US" sz="6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570" name="组合 47"/>
          <p:cNvGrpSpPr/>
          <p:nvPr/>
        </p:nvGrpSpPr>
        <p:grpSpPr>
          <a:xfrm>
            <a:off x="800280" y="4176720"/>
            <a:ext cx="2239920" cy="1106640"/>
            <a:chOff x="800280" y="4176720"/>
            <a:chExt cx="2239920" cy="1106640"/>
          </a:xfrm>
        </p:grpSpPr>
        <p:pic>
          <p:nvPicPr>
            <p:cNvPr id="571" name="图片 10" descr=""/>
            <p:cNvPicPr/>
            <p:nvPr/>
          </p:nvPicPr>
          <p:blipFill>
            <a:blip r:embed="rId6"/>
            <a:srcRect l="0" t="0" r="49062" b="456"/>
            <a:stretch/>
          </p:blipFill>
          <p:spPr>
            <a:xfrm>
              <a:off x="800280" y="4176720"/>
              <a:ext cx="2239920" cy="110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组合 18"/>
            <p:cNvGrpSpPr/>
            <p:nvPr/>
          </p:nvGrpSpPr>
          <p:grpSpPr>
            <a:xfrm>
              <a:off x="867240" y="4176720"/>
              <a:ext cx="2065680" cy="1099440"/>
              <a:chOff x="867240" y="4176720"/>
              <a:chExt cx="2065680" cy="1099440"/>
            </a:xfrm>
          </p:grpSpPr>
          <p:sp>
            <p:nvSpPr>
              <p:cNvPr id="573" name="文本框 19"/>
              <p:cNvSpPr/>
              <p:nvPr/>
            </p:nvSpPr>
            <p:spPr>
              <a:xfrm>
                <a:off x="1917720" y="4176720"/>
                <a:ext cx="10152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6600" spc="-1" strike="noStrike" u="sng">
                    <a:solidFill>
                      <a:srgbClr val="565476"/>
                    </a:solidFill>
                    <a:uFillTx/>
                    <a:latin typeface="楷体"/>
                    <a:ea typeface="楷体"/>
                  </a:rPr>
                  <a:t>翠</a:t>
                </a:r>
                <a:endParaRPr b="0" i="1" lang="en-US" sz="6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4" name="文本框 20"/>
              <p:cNvSpPr/>
              <p:nvPr/>
            </p:nvSpPr>
            <p:spPr>
              <a:xfrm>
                <a:off x="867240" y="4176720"/>
                <a:ext cx="10152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6600" spc="-1" strike="noStrike" u="sng">
                    <a:solidFill>
                      <a:srgbClr val="565476"/>
                    </a:solidFill>
                    <a:uFillTx/>
                    <a:latin typeface="楷体"/>
                    <a:ea typeface="楷体"/>
                  </a:rPr>
                  <a:t>亲</a:t>
                </a:r>
                <a:endParaRPr b="0" i="1" lang="en-US" sz="6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575" name="组合 43"/>
          <p:cNvGrpSpPr/>
          <p:nvPr/>
        </p:nvGrpSpPr>
        <p:grpSpPr>
          <a:xfrm>
            <a:off x="925560" y="3470400"/>
            <a:ext cx="3103560" cy="703440"/>
            <a:chOff x="925560" y="3470400"/>
            <a:chExt cx="3103560" cy="703440"/>
          </a:xfrm>
        </p:grpSpPr>
        <p:sp>
          <p:nvSpPr>
            <p:cNvPr id="576" name="文本框 25"/>
            <p:cNvSpPr/>
            <p:nvPr/>
          </p:nvSpPr>
          <p:spPr>
            <a:xfrm>
              <a:off x="2008440" y="3470400"/>
              <a:ext cx="83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cuì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7" name="文本框 35"/>
            <p:cNvSpPr/>
            <p:nvPr/>
          </p:nvSpPr>
          <p:spPr>
            <a:xfrm>
              <a:off x="3090960" y="3470400"/>
              <a:ext cx="93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tūn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8" name="文本框 55"/>
            <p:cNvSpPr/>
            <p:nvPr/>
          </p:nvSpPr>
          <p:spPr>
            <a:xfrm>
              <a:off x="925560" y="34704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qīn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9" name="组合 42"/>
          <p:cNvGrpSpPr/>
          <p:nvPr/>
        </p:nvGrpSpPr>
        <p:grpSpPr>
          <a:xfrm>
            <a:off x="879120" y="314280"/>
            <a:ext cx="9393840" cy="733680"/>
            <a:chOff x="879120" y="314280"/>
            <a:chExt cx="9393840" cy="733680"/>
          </a:xfrm>
        </p:grpSpPr>
        <p:sp>
          <p:nvSpPr>
            <p:cNvPr id="580" name="文本框 22"/>
            <p:cNvSpPr/>
            <p:nvPr/>
          </p:nvSpPr>
          <p:spPr>
            <a:xfrm>
              <a:off x="5080680" y="326880"/>
              <a:ext cx="712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yǔ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1" name="文本框 26"/>
            <p:cNvSpPr/>
            <p:nvPr/>
          </p:nvSpPr>
          <p:spPr>
            <a:xfrm>
              <a:off x="1729440" y="314280"/>
              <a:ext cx="124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</a:t>
              </a: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shā 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2" name="文本框 28"/>
            <p:cNvSpPr/>
            <p:nvPr/>
          </p:nvSpPr>
          <p:spPr>
            <a:xfrm>
              <a:off x="3101760" y="320400"/>
              <a:ext cx="59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lā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文本框 29"/>
            <p:cNvSpPr/>
            <p:nvPr/>
          </p:nvSpPr>
          <p:spPr>
            <a:xfrm>
              <a:off x="6118920" y="314280"/>
              <a:ext cx="8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zuǐ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文本框 32"/>
            <p:cNvSpPr/>
            <p:nvPr/>
          </p:nvSpPr>
          <p:spPr>
            <a:xfrm>
              <a:off x="3765600" y="329760"/>
              <a:ext cx="14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xiǎng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文本框 33"/>
            <p:cNvSpPr/>
            <p:nvPr/>
          </p:nvSpPr>
          <p:spPr>
            <a:xfrm>
              <a:off x="879120" y="336240"/>
              <a:ext cx="76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dā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6" name="文本框 36"/>
            <p:cNvSpPr/>
            <p:nvPr/>
          </p:nvSpPr>
          <p:spPr>
            <a:xfrm>
              <a:off x="7063920" y="329760"/>
              <a:ext cx="117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qiāo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7" name="文本框 51"/>
            <p:cNvSpPr/>
            <p:nvPr/>
          </p:nvSpPr>
          <p:spPr>
            <a:xfrm>
              <a:off x="8537400" y="32976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o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8" name="文本框 52"/>
            <p:cNvSpPr/>
            <p:nvPr/>
          </p:nvSpPr>
          <p:spPr>
            <a:xfrm>
              <a:off x="9504000" y="344520"/>
              <a:ext cx="76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bǔ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9" name="文本框 68"/>
          <p:cNvSpPr/>
          <p:nvPr/>
        </p:nvSpPr>
        <p:spPr>
          <a:xfrm>
            <a:off x="3949560" y="2338560"/>
            <a:ext cx="318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结构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文本框 37"/>
          <p:cNvSpPr/>
          <p:nvPr/>
        </p:nvSpPr>
        <p:spPr>
          <a:xfrm>
            <a:off x="4317480" y="2311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左右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文本框 38"/>
          <p:cNvSpPr/>
          <p:nvPr/>
        </p:nvSpPr>
        <p:spPr>
          <a:xfrm>
            <a:off x="496800" y="5526000"/>
            <a:ext cx="318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结构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文本框 39"/>
          <p:cNvSpPr/>
          <p:nvPr/>
        </p:nvSpPr>
        <p:spPr>
          <a:xfrm>
            <a:off x="853560" y="5526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上下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文本框 40"/>
          <p:cNvSpPr/>
          <p:nvPr/>
        </p:nvSpPr>
        <p:spPr>
          <a:xfrm>
            <a:off x="4506840" y="5526000"/>
            <a:ext cx="318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结构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文本框 41"/>
          <p:cNvSpPr/>
          <p:nvPr/>
        </p:nvSpPr>
        <p:spPr>
          <a:xfrm>
            <a:off x="4822200" y="5526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独立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5" name="组合 50"/>
          <p:cNvGrpSpPr/>
          <p:nvPr/>
        </p:nvGrpSpPr>
        <p:grpSpPr>
          <a:xfrm>
            <a:off x="5473800" y="3448080"/>
            <a:ext cx="1136520" cy="1835280"/>
            <a:chOff x="5473800" y="3448080"/>
            <a:chExt cx="1136520" cy="1835280"/>
          </a:xfrm>
        </p:grpSpPr>
        <p:pic>
          <p:nvPicPr>
            <p:cNvPr id="596" name="图片 21" descr=""/>
            <p:cNvPicPr/>
            <p:nvPr/>
          </p:nvPicPr>
          <p:blipFill>
            <a:blip r:embed="rId7"/>
            <a:srcRect l="0" t="0" r="74182" b="456"/>
            <a:stretch/>
          </p:blipFill>
          <p:spPr>
            <a:xfrm>
              <a:off x="5473800" y="4176360"/>
              <a:ext cx="1136520" cy="110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组合 48"/>
            <p:cNvGrpSpPr/>
            <p:nvPr/>
          </p:nvGrpSpPr>
          <p:grpSpPr>
            <a:xfrm>
              <a:off x="5504040" y="3448080"/>
              <a:ext cx="1016640" cy="1828440"/>
              <a:chOff x="5504040" y="3448080"/>
              <a:chExt cx="1016640" cy="1828440"/>
            </a:xfrm>
          </p:grpSpPr>
          <p:sp>
            <p:nvSpPr>
              <p:cNvPr id="598" name="文本框 15"/>
              <p:cNvSpPr/>
              <p:nvPr/>
            </p:nvSpPr>
            <p:spPr>
              <a:xfrm>
                <a:off x="5504040" y="4177080"/>
                <a:ext cx="1016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6600" spc="-1" strike="noStrike" u="sng">
                    <a:solidFill>
                      <a:srgbClr val="565476"/>
                    </a:solidFill>
                    <a:uFillTx/>
                    <a:latin typeface="楷体"/>
                    <a:ea typeface="楷体"/>
                  </a:rPr>
                  <a:t>父</a:t>
                </a:r>
                <a:endParaRPr b="0" i="1" lang="en-US" sz="6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9" name="文本框 31"/>
              <p:cNvSpPr/>
              <p:nvPr/>
            </p:nvSpPr>
            <p:spPr>
              <a:xfrm>
                <a:off x="5723280" y="3448080"/>
                <a:ext cx="63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fù</a:t>
                </a:r>
                <a:endParaRPr b="0" i="1" lang="en-US" sz="4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00" name="文本框 16"/>
          <p:cNvSpPr/>
          <p:nvPr/>
        </p:nvSpPr>
        <p:spPr>
          <a:xfrm>
            <a:off x="8259840" y="1042920"/>
            <a:ext cx="102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哦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1" name="图片 34" descr=""/>
          <p:cNvPicPr/>
          <p:nvPr/>
        </p:nvPicPr>
        <p:blipFill>
          <a:blip r:embed="rId8"/>
          <a:srcRect l="-95" t="-3458" r="74704" b="0"/>
          <a:stretch/>
        </p:blipFill>
        <p:spPr>
          <a:xfrm>
            <a:off x="9329760" y="1020600"/>
            <a:ext cx="1117440" cy="1151280"/>
          </a:xfrm>
          <a:prstGeom prst="rect">
            <a:avLst/>
          </a:prstGeom>
          <a:ln w="0">
            <a:noFill/>
          </a:ln>
        </p:spPr>
      </p:pic>
      <p:sp>
        <p:nvSpPr>
          <p:cNvPr id="602" name="文本框 49"/>
          <p:cNvSpPr/>
          <p:nvPr/>
        </p:nvSpPr>
        <p:spPr>
          <a:xfrm>
            <a:off x="9377280" y="1042920"/>
            <a:ext cx="102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捕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文本框 53"/>
          <p:cNvSpPr/>
          <p:nvPr/>
        </p:nvSpPr>
        <p:spPr>
          <a:xfrm>
            <a:off x="3046320" y="4176720"/>
            <a:ext cx="102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吞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文本框 4"/>
          <p:cNvSpPr/>
          <p:nvPr/>
        </p:nvSpPr>
        <p:spPr>
          <a:xfrm>
            <a:off x="3891960" y="507960"/>
            <a:ext cx="491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86c9e3"/>
                </a:solidFill>
                <a:uFillTx/>
                <a:latin typeface="楷体"/>
                <a:ea typeface="楷体"/>
              </a:rPr>
              <a:t>【蓑衣】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用一种不容易腐烂的草编织成的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穿在身上用以遮雨的雨具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5" name="Picture 9" descr="20101012194340852[1].jpg"/>
          <p:cNvPicPr/>
          <p:nvPr/>
        </p:nvPicPr>
        <p:blipFill>
          <a:blip r:embed="rId1"/>
          <a:stretch/>
        </p:blipFill>
        <p:spPr>
          <a:xfrm>
            <a:off x="195120" y="2111400"/>
            <a:ext cx="1570320" cy="1281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7d257b3bffbab3b3306570f4c41a_480_640.jpg"/>
          <p:cNvPicPr/>
          <p:nvPr/>
        </p:nvPicPr>
        <p:blipFill>
          <a:blip r:embed="rId2"/>
          <a:stretch/>
        </p:blipFill>
        <p:spPr>
          <a:xfrm>
            <a:off x="195120" y="331920"/>
            <a:ext cx="1570320" cy="1252440"/>
          </a:xfrm>
          <a:prstGeom prst="rect">
            <a:avLst/>
          </a:prstGeom>
          <a:ln w="0">
            <a:noFill/>
          </a:ln>
        </p:spPr>
      </p:pic>
      <p:sp>
        <p:nvSpPr>
          <p:cNvPr id="607" name="文本框 5"/>
          <p:cNvSpPr/>
          <p:nvPr/>
        </p:nvSpPr>
        <p:spPr>
          <a:xfrm>
            <a:off x="4354560" y="2371680"/>
            <a:ext cx="48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86c9e3"/>
                </a:solidFill>
                <a:uFillTx/>
                <a:latin typeface="楷体"/>
                <a:ea typeface="楷体"/>
              </a:rPr>
              <a:t>【船篷】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船上用来遮蔽日光和风雨的覆盖物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8" name="图片 6" descr="20111209_449d98acad6effc6836e4OQX1wdd4BEb.jpg.thumb"/>
          <p:cNvPicPr/>
          <p:nvPr/>
        </p:nvPicPr>
        <p:blipFill>
          <a:blip r:embed="rId3"/>
          <a:srcRect l="0" t="0" r="0" b="9648"/>
          <a:stretch/>
        </p:blipFill>
        <p:spPr>
          <a:xfrm>
            <a:off x="195120" y="3857760"/>
            <a:ext cx="1570320" cy="1279440"/>
          </a:xfrm>
          <a:prstGeom prst="rect">
            <a:avLst/>
          </a:prstGeom>
          <a:ln w="0">
            <a:noFill/>
          </a:ln>
        </p:spPr>
      </p:pic>
      <p:sp>
        <p:nvSpPr>
          <p:cNvPr id="609" name="文本框 8"/>
          <p:cNvSpPr/>
          <p:nvPr/>
        </p:nvSpPr>
        <p:spPr>
          <a:xfrm>
            <a:off x="4026600" y="413244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86c9e3"/>
                </a:solidFill>
                <a:uFillTx/>
                <a:latin typeface="楷体"/>
                <a:ea typeface="楷体"/>
              </a:rPr>
              <a:t>【船舱】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指船上甲板以下的各种空间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9:00Z</dcterms:created>
  <dc:creator/>
  <dc:description/>
  <dc:language>en-US</dc:language>
  <cp:lastModifiedBy>万润仪器贸易公司</cp:lastModifiedBy>
  <dcterms:modified xsi:type="dcterms:W3CDTF">2020-08-19T03:32:53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